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2.png" ContentType="image/png"/>
  <Override PartName="/ppt/media/image35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69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97.wmf" ContentType="image/x-wmf"/>
  <Override PartName="/ppt/media/image60.wmf" ContentType="image/x-wmf"/>
  <Override PartName="/ppt/media/image96.wmf" ContentType="image/x-wmf"/>
  <Override PartName="/ppt/media/image89.wmf" ContentType="image/x-wmf"/>
  <Override PartName="/ppt/media/image77.wmf" ContentType="image/x-wmf"/>
  <Override PartName="/ppt/media/image101.wmf" ContentType="image/x-wmf"/>
  <Override PartName="/ppt/media/image79.wmf" ContentType="image/x-wmf"/>
  <Override PartName="/ppt/media/image78.wmf" ContentType="image/x-wmf"/>
  <Override PartName="/ppt/media/image90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24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82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8129588" cy="6099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51600" y="8801280"/>
            <a:ext cx="733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fld id="{2B4D542D-CC10-4894-82B8-96164EDFD484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403280" y="844200"/>
            <a:ext cx="4051440" cy="303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3732120"/>
            <a:ext cx="5027760" cy="4724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64200" y="8796240"/>
            <a:ext cx="1928520" cy="2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0940_03F8_c1__c1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sc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388620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8862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-14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-144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body"/>
          </p:nvPr>
        </p:nvSpPr>
        <p:spPr>
          <a:xfrm>
            <a:off x="914400" y="3732120"/>
            <a:ext cx="50277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ldImg"/>
          </p:nvPr>
        </p:nvSpPr>
        <p:spPr>
          <a:xfrm>
            <a:off x="1406520" y="844560"/>
            <a:ext cx="4044960" cy="30351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608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5296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608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5296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87820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5032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0608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87820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5032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8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5296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44400" y="196920"/>
            <a:ext cx="730584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5296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08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5296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5296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5296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608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0"/>
            <a:ext cx="614160" cy="866880"/>
            <a:chOff x="-9360" y="0"/>
            <a:chExt cx="614160" cy="866880"/>
          </a:xfrm>
        </p:grpSpPr>
        <p:sp>
          <p:nvSpPr>
            <p:cNvPr id="1" name=""/>
            <p:cNvSpPr/>
            <p:nvPr/>
          </p:nvSpPr>
          <p:spPr>
            <a:xfrm>
              <a:off x="3240" y="6480"/>
              <a:ext cx="58248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240" y="420840"/>
              <a:ext cx="58248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-9360" y="414360"/>
              <a:ext cx="614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-324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7484760" y="5889600"/>
            <a:ext cx="610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fld id="{F8D01051-AE4B-4B66-9ADE-C2663C966C54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689880" y="5251320"/>
            <a:ext cx="1222200" cy="650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6360" y="5792760"/>
            <a:ext cx="105408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0940_03F8_c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NW98_US_10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3000"/>
          </a:bodyPr>
          <a:p>
            <a:pPr marL="213120" indent="-213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1760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63072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3520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04868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04868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04868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54.wmf"/><Relationship Id="rId7" Type="http://schemas.openxmlformats.org/officeDocument/2006/relationships/image" Target="../media/image55.wmf"/><Relationship Id="rId8" Type="http://schemas.openxmlformats.org/officeDocument/2006/relationships/image" Target="../media/image56.wmf"/><Relationship Id="rId9" Type="http://schemas.openxmlformats.org/officeDocument/2006/relationships/image" Target="../media/image57.wmf"/><Relationship Id="rId10" Type="http://schemas.openxmlformats.org/officeDocument/2006/relationships/image" Target="../media/image58.wmf"/><Relationship Id="rId11" Type="http://schemas.openxmlformats.org/officeDocument/2006/relationships/image" Target="../media/image59.wmf"/><Relationship Id="rId12" Type="http://schemas.openxmlformats.org/officeDocument/2006/relationships/image" Target="../media/image60.wmf"/><Relationship Id="rId1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9.wmf"/><Relationship Id="rId5" Type="http://schemas.openxmlformats.org/officeDocument/2006/relationships/image" Target="../media/image60.wmf"/><Relationship Id="rId6" Type="http://schemas.openxmlformats.org/officeDocument/2006/relationships/image" Target="../media/image51.wmf"/><Relationship Id="rId7" Type="http://schemas.openxmlformats.org/officeDocument/2006/relationships/image" Target="../media/image52.wmf"/><Relationship Id="rId8" Type="http://schemas.openxmlformats.org/officeDocument/2006/relationships/image" Target="../media/image53.wmf"/><Relationship Id="rId9" Type="http://schemas.openxmlformats.org/officeDocument/2006/relationships/image" Target="../media/image54.wmf"/><Relationship Id="rId10" Type="http://schemas.openxmlformats.org/officeDocument/2006/relationships/image" Target="../media/image55.wmf"/><Relationship Id="rId11" Type="http://schemas.openxmlformats.org/officeDocument/2006/relationships/image" Target="../media/image56.wmf"/><Relationship Id="rId12" Type="http://schemas.openxmlformats.org/officeDocument/2006/relationships/image" Target="../media/image57.wmf"/><Relationship Id="rId1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image" Target="../media/image63.wmf"/><Relationship Id="rId4" Type="http://schemas.openxmlformats.org/officeDocument/2006/relationships/image" Target="../media/image64.wmf"/><Relationship Id="rId5" Type="http://schemas.openxmlformats.org/officeDocument/2006/relationships/image" Target="../media/image65.wmf"/><Relationship Id="rId6" Type="http://schemas.openxmlformats.org/officeDocument/2006/relationships/image" Target="../media/image66.wmf"/><Relationship Id="rId7" Type="http://schemas.openxmlformats.org/officeDocument/2006/relationships/image" Target="../media/image67.wmf"/><Relationship Id="rId8" Type="http://schemas.openxmlformats.org/officeDocument/2006/relationships/image" Target="../media/image68.wmf"/><Relationship Id="rId9" Type="http://schemas.openxmlformats.org/officeDocument/2006/relationships/image" Target="../media/image69.wmf"/><Relationship Id="rId10" Type="http://schemas.openxmlformats.org/officeDocument/2006/relationships/image" Target="../media/image70.wmf"/><Relationship Id="rId11" Type="http://schemas.openxmlformats.org/officeDocument/2006/relationships/image" Target="../media/image71.wmf"/><Relationship Id="rId12" Type="http://schemas.openxmlformats.org/officeDocument/2006/relationships/image" Target="../media/image72.wmf"/><Relationship Id="rId1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6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51.wmf"/><Relationship Id="rId8" Type="http://schemas.openxmlformats.org/officeDocument/2006/relationships/image" Target="../media/image52.wmf"/><Relationship Id="rId9" Type="http://schemas.openxmlformats.org/officeDocument/2006/relationships/image" Target="../media/image53.wmf"/><Relationship Id="rId10" Type="http://schemas.openxmlformats.org/officeDocument/2006/relationships/image" Target="../media/image57.wmf"/><Relationship Id="rId11" Type="http://schemas.openxmlformats.org/officeDocument/2006/relationships/image" Target="../media/image54.wmf"/><Relationship Id="rId12" Type="http://schemas.openxmlformats.org/officeDocument/2006/relationships/image" Target="../media/image55.wmf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6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51.wmf"/><Relationship Id="rId8" Type="http://schemas.openxmlformats.org/officeDocument/2006/relationships/image" Target="../media/image52.wmf"/><Relationship Id="rId9" Type="http://schemas.openxmlformats.org/officeDocument/2006/relationships/image" Target="../media/image53.wmf"/><Relationship Id="rId10" Type="http://schemas.openxmlformats.org/officeDocument/2006/relationships/image" Target="../media/image57.wmf"/><Relationship Id="rId11" Type="http://schemas.openxmlformats.org/officeDocument/2006/relationships/image" Target="../media/image54.wmf"/><Relationship Id="rId12" Type="http://schemas.openxmlformats.org/officeDocument/2006/relationships/image" Target="../media/image55.wmf"/><Relationship Id="rId1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6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51.wmf"/><Relationship Id="rId8" Type="http://schemas.openxmlformats.org/officeDocument/2006/relationships/image" Target="../media/image52.wmf"/><Relationship Id="rId9" Type="http://schemas.openxmlformats.org/officeDocument/2006/relationships/image" Target="../media/image73.wmf"/><Relationship Id="rId10" Type="http://schemas.openxmlformats.org/officeDocument/2006/relationships/image" Target="../media/image53.wmf"/><Relationship Id="rId11" Type="http://schemas.openxmlformats.org/officeDocument/2006/relationships/image" Target="../media/image57.wmf"/><Relationship Id="rId12" Type="http://schemas.openxmlformats.org/officeDocument/2006/relationships/image" Target="../media/image54.wmf"/><Relationship Id="rId13" Type="http://schemas.openxmlformats.org/officeDocument/2006/relationships/image" Target="../media/image55.wmf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6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51.wmf"/><Relationship Id="rId8" Type="http://schemas.openxmlformats.org/officeDocument/2006/relationships/image" Target="../media/image52.wmf"/><Relationship Id="rId9" Type="http://schemas.openxmlformats.org/officeDocument/2006/relationships/image" Target="../media/image74.wmf"/><Relationship Id="rId10" Type="http://schemas.openxmlformats.org/officeDocument/2006/relationships/image" Target="../media/image53.wmf"/><Relationship Id="rId11" Type="http://schemas.openxmlformats.org/officeDocument/2006/relationships/image" Target="../media/image57.wmf"/><Relationship Id="rId12" Type="http://schemas.openxmlformats.org/officeDocument/2006/relationships/image" Target="../media/image54.wmf"/><Relationship Id="rId13" Type="http://schemas.openxmlformats.org/officeDocument/2006/relationships/image" Target="../media/image55.wmf"/><Relationship Id="rId1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image" Target="../media/image78.wmf"/><Relationship Id="rId5" Type="http://schemas.openxmlformats.org/officeDocument/2006/relationships/image" Target="../media/image79.wmf"/><Relationship Id="rId6" Type="http://schemas.openxmlformats.org/officeDocument/2006/relationships/image" Target="../media/image80.wmf"/><Relationship Id="rId7" Type="http://schemas.openxmlformats.org/officeDocument/2006/relationships/image" Target="../media/image81.wmf"/><Relationship Id="rId8" Type="http://schemas.openxmlformats.org/officeDocument/2006/relationships/image" Target="../media/image82.wmf"/><Relationship Id="rId9" Type="http://schemas.openxmlformats.org/officeDocument/2006/relationships/image" Target="../media/image83.wmf"/><Relationship Id="rId10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image" Target="../media/image89.wmf"/><Relationship Id="rId8" Type="http://schemas.openxmlformats.org/officeDocument/2006/relationships/image" Target="../media/image90.wmf"/><Relationship Id="rId9" Type="http://schemas.openxmlformats.org/officeDocument/2006/relationships/image" Target="../media/image91.wmf"/><Relationship Id="rId10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image" Target="../media/image89.wmf"/><Relationship Id="rId8" Type="http://schemas.openxmlformats.org/officeDocument/2006/relationships/image" Target="../media/image90.wmf"/><Relationship Id="rId9" Type="http://schemas.openxmlformats.org/officeDocument/2006/relationships/image" Target="../media/image91.wmf"/><Relationship Id="rId10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image" Target="../media/image89.wmf"/><Relationship Id="rId8" Type="http://schemas.openxmlformats.org/officeDocument/2006/relationships/image" Target="../media/image90.wmf"/><Relationship Id="rId9" Type="http://schemas.openxmlformats.org/officeDocument/2006/relationships/image" Target="../media/image91.wmf"/><Relationship Id="rId10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84.wmf"/><Relationship Id="rId3" Type="http://schemas.openxmlformats.org/officeDocument/2006/relationships/image" Target="../media/image90.wmf"/><Relationship Id="rId4" Type="http://schemas.openxmlformats.org/officeDocument/2006/relationships/image" Target="../media/image85.wmf"/><Relationship Id="rId5" Type="http://schemas.openxmlformats.org/officeDocument/2006/relationships/image" Target="../media/image86.wmf"/><Relationship Id="rId6" Type="http://schemas.openxmlformats.org/officeDocument/2006/relationships/image" Target="../media/image88.wmf"/><Relationship Id="rId7" Type="http://schemas.openxmlformats.org/officeDocument/2006/relationships/image" Target="../media/image91.wmf"/><Relationship Id="rId8" Type="http://schemas.openxmlformats.org/officeDocument/2006/relationships/image" Target="../media/image87.wmf"/><Relationship Id="rId9" Type="http://schemas.openxmlformats.org/officeDocument/2006/relationships/image" Target="../media/image89.wmf"/><Relationship Id="rId10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84.wmf"/><Relationship Id="rId3" Type="http://schemas.openxmlformats.org/officeDocument/2006/relationships/image" Target="../media/image90.wmf"/><Relationship Id="rId4" Type="http://schemas.openxmlformats.org/officeDocument/2006/relationships/image" Target="../media/image85.wmf"/><Relationship Id="rId5" Type="http://schemas.openxmlformats.org/officeDocument/2006/relationships/image" Target="../media/image86.wmf"/><Relationship Id="rId6" Type="http://schemas.openxmlformats.org/officeDocument/2006/relationships/image" Target="../media/image87.wmf"/><Relationship Id="rId7" Type="http://schemas.openxmlformats.org/officeDocument/2006/relationships/image" Target="../media/image88.wmf"/><Relationship Id="rId8" Type="http://schemas.openxmlformats.org/officeDocument/2006/relationships/image" Target="../media/image91.wmf"/><Relationship Id="rId9" Type="http://schemas.openxmlformats.org/officeDocument/2006/relationships/image" Target="../media/image89.wmf"/><Relationship Id="rId10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84.wmf"/><Relationship Id="rId3" Type="http://schemas.openxmlformats.org/officeDocument/2006/relationships/image" Target="../media/image90.wmf"/><Relationship Id="rId4" Type="http://schemas.openxmlformats.org/officeDocument/2006/relationships/image" Target="../media/image85.wmf"/><Relationship Id="rId5" Type="http://schemas.openxmlformats.org/officeDocument/2006/relationships/image" Target="../media/image86.wmf"/><Relationship Id="rId6" Type="http://schemas.openxmlformats.org/officeDocument/2006/relationships/image" Target="../media/image89.wmf"/><Relationship Id="rId7" Type="http://schemas.openxmlformats.org/officeDocument/2006/relationships/image" Target="../media/image87.wmf"/><Relationship Id="rId8" Type="http://schemas.openxmlformats.org/officeDocument/2006/relationships/image" Target="../media/image91.wmf"/><Relationship Id="rId9" Type="http://schemas.openxmlformats.org/officeDocument/2006/relationships/image" Target="../media/image88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wmf"/><Relationship Id="rId17" Type="http://schemas.openxmlformats.org/officeDocument/2006/relationships/image" Target="../media/image19.wmf"/><Relationship Id="rId18" Type="http://schemas.openxmlformats.org/officeDocument/2006/relationships/image" Target="../media/image20.wmf"/><Relationship Id="rId19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88.wmf"/><Relationship Id="rId3" Type="http://schemas.openxmlformats.org/officeDocument/2006/relationships/image" Target="../media/image84.wmf"/><Relationship Id="rId4" Type="http://schemas.openxmlformats.org/officeDocument/2006/relationships/image" Target="../media/image90.wmf"/><Relationship Id="rId5" Type="http://schemas.openxmlformats.org/officeDocument/2006/relationships/image" Target="../media/image85.wmf"/><Relationship Id="rId6" Type="http://schemas.openxmlformats.org/officeDocument/2006/relationships/image" Target="../media/image86.wmf"/><Relationship Id="rId7" Type="http://schemas.openxmlformats.org/officeDocument/2006/relationships/image" Target="../media/image89.wmf"/><Relationship Id="rId8" Type="http://schemas.openxmlformats.org/officeDocument/2006/relationships/image" Target="../media/image87.wmf"/><Relationship Id="rId9" Type="http://schemas.openxmlformats.org/officeDocument/2006/relationships/image" Target="../media/image91.wmf"/><Relationship Id="rId10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87.wmf"/><Relationship Id="rId3" Type="http://schemas.openxmlformats.org/officeDocument/2006/relationships/image" Target="../media/image89.wmf"/><Relationship Id="rId4" Type="http://schemas.openxmlformats.org/officeDocument/2006/relationships/image" Target="../media/image75.wmf"/><Relationship Id="rId5" Type="http://schemas.openxmlformats.org/officeDocument/2006/relationships/image" Target="../media/image88.wmf"/><Relationship Id="rId6" Type="http://schemas.openxmlformats.org/officeDocument/2006/relationships/image" Target="../media/image84.wmf"/><Relationship Id="rId7" Type="http://schemas.openxmlformats.org/officeDocument/2006/relationships/image" Target="../media/image90.wmf"/><Relationship Id="rId8" Type="http://schemas.openxmlformats.org/officeDocument/2006/relationships/image" Target="../media/image85.wmf"/><Relationship Id="rId9" Type="http://schemas.openxmlformats.org/officeDocument/2006/relationships/image" Target="../media/image86.wmf"/><Relationship Id="rId10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image" Target="../media/image93.wmf"/><Relationship Id="rId3" Type="http://schemas.openxmlformats.org/officeDocument/2006/relationships/image" Target="../media/image94.wmf"/><Relationship Id="rId4" Type="http://schemas.openxmlformats.org/officeDocument/2006/relationships/image" Target="../media/image95.wmf"/><Relationship Id="rId5" Type="http://schemas.openxmlformats.org/officeDocument/2006/relationships/image" Target="../media/image96.wmf"/><Relationship Id="rId6" Type="http://schemas.openxmlformats.org/officeDocument/2006/relationships/image" Target="../media/image97.wmf"/><Relationship Id="rId7" Type="http://schemas.openxmlformats.org/officeDocument/2006/relationships/image" Target="../media/image98.wmf"/><Relationship Id="rId8" Type="http://schemas.openxmlformats.org/officeDocument/2006/relationships/image" Target="../media/image99.wmf"/><Relationship Id="rId9" Type="http://schemas.openxmlformats.org/officeDocument/2006/relationships/image" Target="../media/image100.wmf"/><Relationship Id="rId10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87.wmf"/><Relationship Id="rId3" Type="http://schemas.openxmlformats.org/officeDocument/2006/relationships/image" Target="../media/image89.wmf"/><Relationship Id="rId4" Type="http://schemas.openxmlformats.org/officeDocument/2006/relationships/image" Target="../media/image75.wmf"/><Relationship Id="rId5" Type="http://schemas.openxmlformats.org/officeDocument/2006/relationships/image" Target="../media/image88.wmf"/><Relationship Id="rId6" Type="http://schemas.openxmlformats.org/officeDocument/2006/relationships/image" Target="../media/image86.wmf"/><Relationship Id="rId7" Type="http://schemas.openxmlformats.org/officeDocument/2006/relationships/image" Target="../media/image101.wmf"/><Relationship Id="rId8" Type="http://schemas.openxmlformats.org/officeDocument/2006/relationships/image" Target="../media/image84.wmf"/><Relationship Id="rId9" Type="http://schemas.openxmlformats.org/officeDocument/2006/relationships/image" Target="../media/image90.wmf"/><Relationship Id="rId10" Type="http://schemas.openxmlformats.org/officeDocument/2006/relationships/image" Target="../media/image85.wmf"/><Relationship Id="rId1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9360" y="1982880"/>
            <a:ext cx="6689880" cy="12952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ulticast Routing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2000" y="3243240"/>
            <a:ext cx="66898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gnacio Martin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gmartin@cisco.co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4600" y="439560"/>
            <a:ext cx="7378560" cy="121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18800" y="5746680"/>
            <a:ext cx="4419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yright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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8, Cisco Systems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Group Management Protocol—IGM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6080" y="16430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5000"/>
          </a:bodyPr>
          <a:p>
            <a:pPr marL="218160" indent="-21816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GMP v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768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e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erier sends IGMP query messages to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24.0.0.1 with ttl =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ne router on LAN is designated/elected to send que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ery interval 60–120 seco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768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GMP report sent by one host suppresses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nding by oth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trict to one report per group per L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solicited reports sent by host, when it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rst joins the group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-9360" y="0"/>
            <a:ext cx="614160" cy="866880"/>
            <a:chOff x="-9360" y="0"/>
            <a:chExt cx="614160" cy="866880"/>
          </a:xfrm>
        </p:grpSpPr>
        <p:sp>
          <p:nvSpPr>
            <p:cNvPr id="157" name=""/>
            <p:cNvSpPr/>
            <p:nvPr/>
          </p:nvSpPr>
          <p:spPr>
            <a:xfrm>
              <a:off x="3240" y="6480"/>
              <a:ext cx="58248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40" y="420840"/>
              <a:ext cx="58248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-9360" y="414360"/>
              <a:ext cx="614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-324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655400" y="5889600"/>
            <a:ext cx="2595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360" y="5792760"/>
            <a:ext cx="105408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940_03F8_c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W98_US_10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GMP—Joining a Gro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28920" y="2332080"/>
            <a:ext cx="731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1800" y="2332080"/>
            <a:ext cx="731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78840" y="2332080"/>
            <a:ext cx="731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06480" y="3341520"/>
            <a:ext cx="1344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Repor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224.5.5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5560" y="3341520"/>
            <a:ext cx="1344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Repor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224.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71760" y="4127400"/>
            <a:ext cx="2222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iodically Send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GMP Query to 224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57400" y="2644920"/>
            <a:ext cx="788760" cy="701640"/>
          </a:xfrm>
          <a:custGeom>
            <a:avLst/>
            <a:gdLst/>
            <a:ahLst/>
            <a:rect l="l" t="t" r="r" b="b"/>
            <a:pathLst>
              <a:path w="497" h="442">
                <a:moveTo>
                  <a:pt x="496" y="0"/>
                </a:moveTo>
                <a:lnTo>
                  <a:pt x="0" y="0"/>
                </a:lnTo>
                <a:lnTo>
                  <a:pt x="0" y="4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95960" y="2644920"/>
            <a:ext cx="790560" cy="701640"/>
          </a:xfrm>
          <a:custGeom>
            <a:avLst/>
            <a:gdLst/>
            <a:ahLst/>
            <a:rect l="l" t="t" r="r" b="b"/>
            <a:pathLst>
              <a:path w="498" h="442">
                <a:moveTo>
                  <a:pt x="0" y="0"/>
                </a:moveTo>
                <a:lnTo>
                  <a:pt x="497" y="0"/>
                </a:lnTo>
                <a:lnTo>
                  <a:pt x="497" y="4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28960" y="3490920"/>
            <a:ext cx="790560" cy="352440"/>
          </a:xfrm>
          <a:custGeom>
            <a:avLst/>
            <a:gdLst/>
            <a:ahLst/>
            <a:rect l="l" t="t" r="r" b="b"/>
            <a:pathLst>
              <a:path w="498" h="222">
                <a:moveTo>
                  <a:pt x="0" y="221"/>
                </a:moveTo>
                <a:lnTo>
                  <a:pt x="497" y="221"/>
                </a:lnTo>
                <a:lnTo>
                  <a:pt x="49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74440" y="1851120"/>
            <a:ext cx="933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73160" y="1641600"/>
            <a:ext cx="933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4.2.0.1</a:t>
            </a:r>
            <a:br>
              <a:rPr sz="1400"/>
            </a:b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224.5.5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28280" y="1851120"/>
            <a:ext cx="933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039000" y="2633400"/>
            <a:ext cx="0" cy="546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093760" y="2633400"/>
            <a:ext cx="0" cy="546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20800" y="2157480"/>
            <a:ext cx="782640" cy="689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V="1">
            <a:off x="4040280" y="2633400"/>
            <a:ext cx="0" cy="546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665680" y="2157480"/>
            <a:ext cx="784440" cy="689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flipV="1">
            <a:off x="3583080" y="3173040"/>
            <a:ext cx="0" cy="546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108240" y="3537000"/>
            <a:ext cx="987480" cy="5889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3666960" y="2157480"/>
            <a:ext cx="782640" cy="6890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677960" y="3174840"/>
            <a:ext cx="480708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06080" y="1753920"/>
            <a:ext cx="7311960" cy="3539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3000"/>
          </a:bodyPr>
          <a:p>
            <a:pPr marL="213120" indent="-21312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GMP v2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st sends leave message if it leaves the group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is the last member (reduces leave latency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comparison to v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uter sends G-specific queries to make sure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re are no members present before stopping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forward data for the group for that sub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ndard querier el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3120" indent="-21312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GMP v3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design ph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ables to listen only to a specified subset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the hosts sending to the gro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Group Management Protocol—IGMP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GMP—Leaving a Gro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28920" y="2305080"/>
            <a:ext cx="731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1800" y="2305080"/>
            <a:ext cx="731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78840" y="2305080"/>
            <a:ext cx="731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39240" y="3314880"/>
            <a:ext cx="1276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Lea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24.5.5.5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224.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8320" y="3314880"/>
            <a:ext cx="1276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Lea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224.2.0.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224.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71760" y="4100400"/>
            <a:ext cx="2222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Group Specifi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GMP Query to 224.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57400" y="2617920"/>
            <a:ext cx="790560" cy="701640"/>
          </a:xfrm>
          <a:custGeom>
            <a:avLst/>
            <a:gdLst/>
            <a:ahLst/>
            <a:rect l="l" t="t" r="r" b="b"/>
            <a:pathLst>
              <a:path w="498" h="442">
                <a:moveTo>
                  <a:pt x="497" y="0"/>
                </a:moveTo>
                <a:lnTo>
                  <a:pt x="0" y="0"/>
                </a:lnTo>
                <a:lnTo>
                  <a:pt x="0" y="4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95960" y="2617920"/>
            <a:ext cx="790560" cy="701640"/>
          </a:xfrm>
          <a:custGeom>
            <a:avLst/>
            <a:gdLst/>
            <a:ahLst/>
            <a:rect l="l" t="t" r="r" b="b"/>
            <a:pathLst>
              <a:path w="498" h="442">
                <a:moveTo>
                  <a:pt x="0" y="0"/>
                </a:moveTo>
                <a:lnTo>
                  <a:pt x="497" y="0"/>
                </a:lnTo>
                <a:lnTo>
                  <a:pt x="497" y="4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28960" y="3463920"/>
            <a:ext cx="790560" cy="352440"/>
          </a:xfrm>
          <a:custGeom>
            <a:avLst/>
            <a:gdLst/>
            <a:ahLst/>
            <a:rect l="l" t="t" r="r" b="b"/>
            <a:pathLst>
              <a:path w="498" h="222">
                <a:moveTo>
                  <a:pt x="0" y="221"/>
                </a:moveTo>
                <a:lnTo>
                  <a:pt x="497" y="221"/>
                </a:lnTo>
                <a:lnTo>
                  <a:pt x="49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73160" y="1865160"/>
            <a:ext cx="933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71960" y="2266920"/>
            <a:ext cx="790560" cy="382680"/>
          </a:xfrm>
          <a:custGeom>
            <a:avLst/>
            <a:gdLst/>
            <a:ahLst/>
            <a:rect l="l" t="t" r="r" b="b"/>
            <a:pathLst>
              <a:path w="498" h="241">
                <a:moveTo>
                  <a:pt x="497" y="0"/>
                </a:moveTo>
                <a:lnTo>
                  <a:pt x="0" y="0"/>
                </a:lnTo>
                <a:lnTo>
                  <a:pt x="0" y="24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04440" y="2612880"/>
            <a:ext cx="1344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Repor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224.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71760" y="4713120"/>
            <a:ext cx="2222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Group Specifi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GMP Query to 224.5.5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7960" y="3174840"/>
            <a:ext cx="480708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74440" y="1851120"/>
            <a:ext cx="933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28280" y="1851120"/>
            <a:ext cx="933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039000" y="2633400"/>
            <a:ext cx="0" cy="546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093760" y="2633400"/>
            <a:ext cx="0" cy="546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720800" y="2157480"/>
            <a:ext cx="782640" cy="689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flipV="1">
            <a:off x="4040280" y="2633400"/>
            <a:ext cx="0" cy="546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665680" y="2157480"/>
            <a:ext cx="784440" cy="6890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flipV="1">
            <a:off x="3583080" y="3173040"/>
            <a:ext cx="0" cy="546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108240" y="3537000"/>
            <a:ext cx="987480" cy="588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3666960" y="2157480"/>
            <a:ext cx="782640" cy="689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Routing Protoco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Reverse Path Forwarding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07520" y="1498680"/>
            <a:ext cx="7311960" cy="1177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cf0e30"/>
                </a:solidFill>
                <a:latin typeface="Arial"/>
              </a:rPr>
              <a:t>What is RPF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router forwards a multicast datagram if received on the interface used to send unicast datagrams to the sour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541600" y="3551040"/>
            <a:ext cx="50652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14440" y="4059360"/>
            <a:ext cx="835200" cy="29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994200" y="3443400"/>
            <a:ext cx="592200" cy="3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013280" y="4535640"/>
            <a:ext cx="592200" cy="3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450040" y="4060800"/>
            <a:ext cx="617400" cy="37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5465520" y="3554280"/>
            <a:ext cx="623880" cy="30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74880" y="3562200"/>
            <a:ext cx="85680" cy="31752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75000" y="369108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89520" y="365436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9800" y="422748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32040" y="4227480"/>
            <a:ext cx="32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27160" y="3954600"/>
            <a:ext cx="581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55440" y="3803760"/>
            <a:ext cx="784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75360" y="3954600"/>
            <a:ext cx="274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0200" y="3803760"/>
            <a:ext cx="925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798560" y="2863440"/>
            <a:ext cx="750960" cy="655560"/>
          </a:xfrm>
          <a:prstGeom prst="line">
            <a:avLst/>
          </a:prstGeom>
          <a:ln w="507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08200" y="2859120"/>
            <a:ext cx="2995560" cy="7920"/>
          </a:xfrm>
          <a:prstGeom prst="line">
            <a:avLst/>
          </a:prstGeom>
          <a:ln w="507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62440" y="2908440"/>
            <a:ext cx="689040" cy="495000"/>
          </a:xfrm>
          <a:prstGeom prst="line">
            <a:avLst/>
          </a:prstGeom>
          <a:ln w="507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60560" y="4680000"/>
            <a:ext cx="746280" cy="638280"/>
          </a:xfrm>
          <a:prstGeom prst="line">
            <a:avLst/>
          </a:prstGeom>
          <a:ln w="507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09800" y="5380200"/>
            <a:ext cx="2793960" cy="1440"/>
          </a:xfrm>
          <a:prstGeom prst="line">
            <a:avLst/>
          </a:prstGeom>
          <a:ln w="507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680080" y="4696920"/>
            <a:ext cx="792000" cy="747720"/>
          </a:xfrm>
          <a:prstGeom prst="line">
            <a:avLst/>
          </a:prstGeom>
          <a:ln w="507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59840" y="2854440"/>
            <a:ext cx="91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i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86760" y="536904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75000" y="478008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96000" y="478008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060720" y="3181320"/>
            <a:ext cx="987480" cy="5889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060720" y="4287960"/>
            <a:ext cx="987480" cy="5889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575240" y="3170160"/>
            <a:ext cx="987480" cy="5889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4575240" y="4273560"/>
            <a:ext cx="987480" cy="5889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6005520" y="3666960"/>
            <a:ext cx="987480" cy="5889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1666800" y="3666960"/>
            <a:ext cx="987480" cy="5889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082960" y="4497480"/>
            <a:ext cx="4384440" cy="669960"/>
          </a:xfrm>
          <a:custGeom>
            <a:avLst/>
            <a:gdLst/>
            <a:ahLst/>
            <a:rect l="l" t="t" r="r" b="b"/>
            <a:pathLst>
              <a:path w="2762" h="422">
                <a:moveTo>
                  <a:pt x="0" y="0"/>
                </a:moveTo>
                <a:lnTo>
                  <a:pt x="495" y="421"/>
                </a:lnTo>
                <a:lnTo>
                  <a:pt x="2308" y="415"/>
                </a:lnTo>
                <a:lnTo>
                  <a:pt x="2761" y="2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44400" y="174600"/>
            <a:ext cx="6237360" cy="1060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Routing Protoco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Reverse Path Forwarding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56920" y="1985040"/>
            <a:ext cx="7010280" cy="3105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177840" indent="-177840">
              <a:lnSpc>
                <a:spcPct val="90000"/>
              </a:lnSpc>
              <a:spcBef>
                <a:spcPts val="10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the RPF check succeeds, the datagram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 forwar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the RPF check fails, the datagram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 typically silently discar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n a datagram is forwarded, it is sent out each interface in the outgoing interface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cket i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cf0e30"/>
                </a:solidFill>
                <a:latin typeface="Arial"/>
              </a:rPr>
              <a:t>neve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warded back out th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PF interfac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4040" y="174600"/>
            <a:ext cx="6085080" cy="1060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cols—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66760" y="1397160"/>
            <a:ext cx="5792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rtest Path or Source Distribution Tre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95440" y="32479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76280" y="543888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76480" y="46990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321600" y="30078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87520" y="49878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141640" y="3451320"/>
            <a:ext cx="3709080" cy="292680"/>
            <a:chOff x="2141640" y="3451320"/>
            <a:chExt cx="3709080" cy="292680"/>
          </a:xfrm>
        </p:grpSpPr>
        <p:sp>
          <p:nvSpPr>
            <p:cNvPr id="256" name=""/>
            <p:cNvSpPr/>
            <p:nvPr/>
          </p:nvSpPr>
          <p:spPr>
            <a:xfrm>
              <a:off x="3284640" y="3451320"/>
              <a:ext cx="2908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1640"/>
                  <a:tab algn="l" pos="1403280"/>
                  <a:tab algn="l" pos="2104920"/>
                  <a:tab algn="l" pos="2806560"/>
                  <a:tab algn="l" pos="3508200"/>
                  <a:tab algn="l" pos="4210200"/>
                  <a:tab algn="l" pos="4911840"/>
                  <a:tab algn="l" pos="5613480"/>
                  <a:tab algn="l" pos="6315120"/>
                  <a:tab algn="l" pos="7016760"/>
                  <a:tab algn="l" pos="7718400"/>
                  <a:tab algn="l" pos="8420040"/>
                  <a:tab algn="l" pos="9121680"/>
                  <a:tab algn="l" pos="9823320"/>
                  <a:tab algn="l" pos="105249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41640" y="3451320"/>
              <a:ext cx="2908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1640"/>
                  <a:tab algn="l" pos="1403280"/>
                  <a:tab algn="l" pos="2104920"/>
                  <a:tab algn="l" pos="2806560"/>
                  <a:tab algn="l" pos="3508200"/>
                  <a:tab algn="l" pos="4210200"/>
                  <a:tab algn="l" pos="4911840"/>
                  <a:tab algn="l" pos="5613480"/>
                  <a:tab algn="l" pos="6315120"/>
                  <a:tab algn="l" pos="7016760"/>
                  <a:tab algn="l" pos="7718400"/>
                  <a:tab algn="l" pos="8420040"/>
                  <a:tab algn="l" pos="9121680"/>
                  <a:tab algn="l" pos="9823320"/>
                  <a:tab algn="l" pos="105249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25840" y="3451320"/>
              <a:ext cx="2908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1640"/>
                  <a:tab algn="l" pos="1403280"/>
                  <a:tab algn="l" pos="2104920"/>
                  <a:tab algn="l" pos="2806560"/>
                  <a:tab algn="l" pos="3508200"/>
                  <a:tab algn="l" pos="4210200"/>
                  <a:tab algn="l" pos="4911840"/>
                  <a:tab algn="l" pos="5613480"/>
                  <a:tab algn="l" pos="6315120"/>
                  <a:tab algn="l" pos="7016760"/>
                  <a:tab algn="l" pos="7718400"/>
                  <a:tab algn="l" pos="8420040"/>
                  <a:tab algn="l" pos="9121680"/>
                  <a:tab algn="l" pos="9823320"/>
                  <a:tab algn="l" pos="105249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79640" y="3451320"/>
              <a:ext cx="2710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1640"/>
                  <a:tab algn="l" pos="1403280"/>
                  <a:tab algn="l" pos="2104920"/>
                  <a:tab algn="l" pos="2806560"/>
                  <a:tab algn="l" pos="3508200"/>
                  <a:tab algn="l" pos="4210200"/>
                  <a:tab algn="l" pos="4911840"/>
                  <a:tab algn="l" pos="5613480"/>
                  <a:tab algn="l" pos="6315120"/>
                  <a:tab algn="l" pos="7016760"/>
                  <a:tab algn="l" pos="7718400"/>
                  <a:tab algn="l" pos="8420040"/>
                  <a:tab algn="l" pos="9121680"/>
                  <a:tab algn="l" pos="9823320"/>
                  <a:tab algn="l" pos="105249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588680" y="1897200"/>
            <a:ext cx="8499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25880" y="2125800"/>
            <a:ext cx="17654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ation:  (S, 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=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 =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98800" y="3308400"/>
            <a:ext cx="731880" cy="7318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138480" y="3306600"/>
            <a:ext cx="1341360" cy="85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957320" y="30574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3100320" y="30574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243320" y="30574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5386320" y="30574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803680" y="44514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09800" y="4395960"/>
            <a:ext cx="13413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0484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26226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22520" y="26035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2960" y="49878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575080" y="4986360"/>
            <a:ext cx="2222280" cy="434880"/>
            <a:chOff x="2575080" y="4986360"/>
            <a:chExt cx="2222280" cy="434880"/>
          </a:xfrm>
        </p:grpSpPr>
        <p:sp>
          <p:nvSpPr>
            <p:cNvPr id="275" name=""/>
            <p:cNvSpPr/>
            <p:nvPr/>
          </p:nvSpPr>
          <p:spPr>
            <a:xfrm flipV="1">
              <a:off x="2575080" y="4986360"/>
              <a:ext cx="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4797360" y="4986360"/>
              <a:ext cx="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4568760" y="44514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81160" y="46990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2475000" y="40654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4240080" y="40654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054320" y="543888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44040" y="174600"/>
            <a:ext cx="6085080" cy="1060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cols—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00280" y="1397160"/>
            <a:ext cx="4726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ared Distribution Tre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76280" y="543888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84640" y="345132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776480" y="46990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594480" y="3052800"/>
            <a:ext cx="0" cy="480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87520" y="49878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41640" y="345132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51440" y="3465360"/>
            <a:ext cx="15174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 (Shared Roo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79640" y="3451320"/>
            <a:ext cx="271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03360" y="1897200"/>
            <a:ext cx="10191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73600" y="1897200"/>
            <a:ext cx="2133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ation:  (*, 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  = All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 =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98800" y="3308400"/>
            <a:ext cx="731880" cy="73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03680" y="44514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09800" y="4395960"/>
            <a:ext cx="13413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0484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26226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22520" y="26035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52960" y="49878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575080" y="4986360"/>
            <a:ext cx="2222280" cy="434880"/>
            <a:chOff x="2575080" y="4986360"/>
            <a:chExt cx="2222280" cy="434880"/>
          </a:xfrm>
        </p:grpSpPr>
        <p:sp>
          <p:nvSpPr>
            <p:cNvPr id="302" name=""/>
            <p:cNvSpPr/>
            <p:nvPr/>
          </p:nvSpPr>
          <p:spPr>
            <a:xfrm flipV="1">
              <a:off x="2575080" y="4986360"/>
              <a:ext cx="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4797360" y="4986360"/>
              <a:ext cx="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568760" y="44514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81160" y="46990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475000" y="40654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240080" y="40654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4054320" y="543888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138480" y="3306600"/>
            <a:ext cx="1341360" cy="85896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4243320" y="30574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614760" y="3247920"/>
            <a:ext cx="6634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3100320" y="30574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471760" y="3247920"/>
            <a:ext cx="6634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1957320" y="30574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919760" y="3278160"/>
            <a:ext cx="503280" cy="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95920" y="3125880"/>
            <a:ext cx="427320" cy="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62760" y="3278160"/>
            <a:ext cx="503280" cy="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561000" y="3201840"/>
            <a:ext cx="1037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5386320" y="3057480"/>
            <a:ext cx="695520" cy="419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07520" y="1829880"/>
            <a:ext cx="7311960" cy="3311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79000"/>
          </a:bodyPr>
          <a:p>
            <a:pPr marL="203040" indent="-20304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tribution tre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744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urce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48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s more memory O(S x G) but you get optimal paths from source to all receivers, minimizes del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744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hared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48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s less memory O(G) but you may get suboptimal paths from source to all receiver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y introduce extra del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744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IM, DVMRP, MOSPF, CB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cols—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cols—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06080" y="171936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Types of multicast protoco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se-m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roadcast and prune behavi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milar to radio broadc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arse-m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licit join behavi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milar to pay-per-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8320" y="1345320"/>
            <a:ext cx="7467480" cy="3865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P Multicast Technology and Concep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P Multicast Host-to-Router Protoco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P Multicast Routing Protoco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tocol Independent Multicast—PIM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eneral Multicast Concep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liverable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44040" y="419040"/>
            <a:ext cx="204156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cols—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se-mode protoc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s dense group membershi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nches that are pruned don’t get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uned branches can later be graft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reduce join lat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VMRP—Distance Vector Multicast Routing Protoc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se-mode PIM—Protocol Independent Multic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cols—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7000"/>
          </a:bodyPr>
          <a:p>
            <a:pPr marL="249120" indent="-24912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arse-mode protoc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7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umes group membership is sparsely populated across a large reg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7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s either source or shared distribution tr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7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licit join behavior—assumes no one wants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packet unless ask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7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oins propagate from receiver to source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 Rendezvous Point (Sparse mode PIM)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 Core (Core Based Tre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6000"/>
          </a:bodyPr>
          <a:p>
            <a:pPr marL="246600" indent="-246600">
              <a:lnSpc>
                <a:spcPct val="93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Broadcast and prune ideal for </a:t>
            </a:r>
            <a:br>
              <a:rPr sz="2600"/>
            </a:b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ense group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ource trees created on demand </a:t>
            </a:r>
            <a:br>
              <a:rPr sz="2600"/>
            </a:b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based on RPF r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If the source goes inactive, the tree </a:t>
            </a:r>
            <a:br>
              <a:rPr sz="2600"/>
            </a:b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is torn down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Easy plug-and-pla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raft: draft-ietf-idmr-pim-dm-spec-05.tx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540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4000"/>
          </a:bodyPr>
          <a:p>
            <a:pPr marL="241560" indent="-24156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ranches that don't care for data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e prun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afts to join existing source tr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es asserts to determine forwarder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 multi-access 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unes on non-RPF P2P lin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ate-limited prunes on RPF P2P lin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 flipV="1">
            <a:off x="1830240" y="2277720"/>
            <a:ext cx="998640" cy="1049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23880" y="1847880"/>
            <a:ext cx="0" cy="210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1847880"/>
            <a:ext cx="0" cy="210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41800" y="3354480"/>
            <a:ext cx="1112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94280" y="33544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18160" y="28018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24480" y="4133880"/>
            <a:ext cx="0" cy="35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62520" y="459108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08280" y="4395960"/>
            <a:ext cx="993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57480" y="3981600"/>
            <a:ext cx="0" cy="274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66760" y="3981600"/>
            <a:ext cx="0" cy="80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4040" y="420840"/>
            <a:ext cx="63118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27115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438768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3549600" y="4232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584280" y="482616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5156280" y="482616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184400" y="1830240"/>
            <a:ext cx="23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367000" y="1467000"/>
            <a:ext cx="0" cy="35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31760" y="3963960"/>
            <a:ext cx="256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510160" y="2381400"/>
            <a:ext cx="0" cy="172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034040" y="25909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27800" y="2725560"/>
            <a:ext cx="42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27800" y="3862440"/>
            <a:ext cx="515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17960" y="4497480"/>
            <a:ext cx="21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91080" y="451476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41800" y="4878360"/>
            <a:ext cx="141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108108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01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29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6"/>
          <a:stretch/>
        </p:blipFill>
        <p:spPr>
          <a:xfrm>
            <a:off x="2711520" y="2098800"/>
            <a:ext cx="863640" cy="5173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7"/>
          <a:stretch/>
        </p:blipFill>
        <p:spPr>
          <a:xfrm>
            <a:off x="2031840" y="95580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8"/>
          <a:stretch/>
        </p:blipFill>
        <p:spPr>
          <a:xfrm>
            <a:off x="11113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9"/>
          <a:stretch/>
        </p:blipFill>
        <p:spPr>
          <a:xfrm>
            <a:off x="1111320" y="2098800"/>
            <a:ext cx="863640" cy="5173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10"/>
          <a:stretch/>
        </p:blipFill>
        <p:spPr>
          <a:xfrm>
            <a:off x="1873080" y="4232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11"/>
          <a:stretch/>
        </p:blipFill>
        <p:spPr>
          <a:xfrm>
            <a:off x="5911920" y="256212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12"/>
          <a:stretch/>
        </p:blipFill>
        <p:spPr>
          <a:xfrm>
            <a:off x="5911920" y="3699000"/>
            <a:ext cx="863640" cy="517320"/>
          </a:xfrm>
          <a:prstGeom prst="rect">
            <a:avLst/>
          </a:prstGeom>
          <a:ln w="0">
            <a:noFill/>
          </a:ln>
        </p:spPr>
      </p:pic>
      <p:grpSp>
        <p:nvGrpSpPr>
          <p:cNvPr id="369" name=""/>
          <p:cNvGrpSpPr/>
          <p:nvPr/>
        </p:nvGrpSpPr>
        <p:grpSpPr>
          <a:xfrm>
            <a:off x="1360440" y="2330280"/>
            <a:ext cx="5133240" cy="2466000"/>
            <a:chOff x="1360440" y="2330280"/>
            <a:chExt cx="5133240" cy="2466000"/>
          </a:xfrm>
        </p:grpSpPr>
        <p:sp>
          <p:nvSpPr>
            <p:cNvPr id="370" name=""/>
            <p:cNvSpPr/>
            <p:nvPr/>
          </p:nvSpPr>
          <p:spPr>
            <a:xfrm>
              <a:off x="29606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648320" y="3321000"/>
              <a:ext cx="30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43360" y="4464000"/>
              <a:ext cx="237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9606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604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604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128320" y="4464000"/>
              <a:ext cx="31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155280" y="278748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161040" y="39304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6127920" y="1144440"/>
            <a:ext cx="1511280" cy="920520"/>
            <a:chOff x="6127920" y="1144440"/>
            <a:chExt cx="1511280" cy="920520"/>
          </a:xfrm>
        </p:grpSpPr>
        <p:sp>
          <p:nvSpPr>
            <p:cNvPr id="380" name=""/>
            <p:cNvSpPr/>
            <p:nvPr/>
          </p:nvSpPr>
          <p:spPr>
            <a:xfrm>
              <a:off x="6127920" y="1150920"/>
              <a:ext cx="1511280" cy="90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215040" y="1341360"/>
              <a:ext cx="42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15040" y="1603440"/>
              <a:ext cx="4269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215040" y="1830240"/>
              <a:ext cx="426960" cy="0"/>
            </a:xfrm>
            <a:prstGeom prst="line">
              <a:avLst/>
            </a:prstGeom>
            <a:ln w="25560">
              <a:solidFill>
                <a:srgbClr val="008a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15040" y="1906560"/>
              <a:ext cx="426960" cy="0"/>
            </a:xfrm>
            <a:prstGeom prst="line">
              <a:avLst/>
            </a:prstGeom>
            <a:ln w="25560">
              <a:solidFill>
                <a:srgbClr val="ffe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17960" y="1144440"/>
              <a:ext cx="900720" cy="9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873080" y="423216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flipV="1">
            <a:off x="1944720" y="2277720"/>
            <a:ext cx="884160" cy="93492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238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41800" y="3354480"/>
            <a:ext cx="11127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94280" y="3354480"/>
            <a:ext cx="5032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518160" y="28018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24480" y="413388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62520" y="459108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08280" y="4395960"/>
            <a:ext cx="8082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57480" y="3981600"/>
            <a:ext cx="0" cy="27432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66760" y="3981600"/>
            <a:ext cx="0" cy="8078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44040" y="420840"/>
            <a:ext cx="63118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27115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438768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5911920" y="256212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5911920" y="3699000"/>
            <a:ext cx="863640" cy="5173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6"/>
          <a:stretch/>
        </p:blipFill>
        <p:spPr>
          <a:xfrm>
            <a:off x="3549600" y="4232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7"/>
          <a:stretch/>
        </p:blipFill>
        <p:spPr>
          <a:xfrm>
            <a:off x="584280" y="482616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8"/>
          <a:stretch/>
        </p:blipFill>
        <p:spPr>
          <a:xfrm>
            <a:off x="5156280" y="482616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1184400" y="1830240"/>
            <a:ext cx="23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367000" y="146700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031760" y="3963960"/>
            <a:ext cx="256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10160" y="2381400"/>
            <a:ext cx="0" cy="172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034040" y="25909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27800" y="272556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27800" y="386244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917960" y="4497480"/>
            <a:ext cx="21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91080" y="451476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41800" y="4878360"/>
            <a:ext cx="141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433040" y="1449360"/>
            <a:ext cx="2217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itial Flood of Dat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Creation of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52560" y="108108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01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29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9"/>
          <a:stretch/>
        </p:blipFill>
        <p:spPr>
          <a:xfrm>
            <a:off x="27115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1240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0"/>
          <a:stretch/>
        </p:blipFill>
        <p:spPr>
          <a:xfrm>
            <a:off x="2031840" y="95580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11"/>
          <a:stretch/>
        </p:blipFill>
        <p:spPr>
          <a:xfrm>
            <a:off x="1111320" y="308916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15238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2"/>
          <a:stretch/>
        </p:blipFill>
        <p:spPr>
          <a:xfrm>
            <a:off x="11113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15238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360440" y="2330280"/>
            <a:ext cx="5133240" cy="2466000"/>
            <a:chOff x="1360440" y="2330280"/>
            <a:chExt cx="5133240" cy="2466000"/>
          </a:xfrm>
        </p:grpSpPr>
        <p:sp>
          <p:nvSpPr>
            <p:cNvPr id="429" name=""/>
            <p:cNvSpPr/>
            <p:nvPr/>
          </p:nvSpPr>
          <p:spPr>
            <a:xfrm>
              <a:off x="29606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48320" y="3321000"/>
              <a:ext cx="30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43360" y="4464000"/>
              <a:ext cx="237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606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604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604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128320" y="4464000"/>
              <a:ext cx="31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55280" y="278748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61040" y="39304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1873080" y="423216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 flipV="1">
            <a:off x="1944720" y="2277720"/>
            <a:ext cx="884160" cy="93492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238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41800" y="3354480"/>
            <a:ext cx="11127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94280" y="3354480"/>
            <a:ext cx="5032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518160" y="28018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24480" y="413388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962520" y="459108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08280" y="4395960"/>
            <a:ext cx="8082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57480" y="3981600"/>
            <a:ext cx="0" cy="27432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66760" y="3981600"/>
            <a:ext cx="0" cy="8078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44040" y="420840"/>
            <a:ext cx="63118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27115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438768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4"/>
          <a:stretch/>
        </p:blipFill>
        <p:spPr>
          <a:xfrm>
            <a:off x="5911920" y="256212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5"/>
          <a:stretch/>
        </p:blipFill>
        <p:spPr>
          <a:xfrm>
            <a:off x="5911920" y="3699000"/>
            <a:ext cx="863640" cy="5173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6"/>
          <a:stretch/>
        </p:blipFill>
        <p:spPr>
          <a:xfrm>
            <a:off x="3549600" y="4232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7"/>
          <a:stretch/>
        </p:blipFill>
        <p:spPr>
          <a:xfrm>
            <a:off x="584280" y="482616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8"/>
          <a:stretch/>
        </p:blipFill>
        <p:spPr>
          <a:xfrm>
            <a:off x="5156280" y="482616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1184400" y="1830240"/>
            <a:ext cx="23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367000" y="146700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031760" y="3963960"/>
            <a:ext cx="256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510160" y="2381400"/>
            <a:ext cx="0" cy="172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034040" y="25909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27800" y="272556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527800" y="386244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917960" y="4497480"/>
            <a:ext cx="21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91080" y="451476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41800" y="4878360"/>
            <a:ext cx="141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32320" y="1449360"/>
            <a:ext cx="2869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une to Non-RPF Neighb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52560" y="108108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384280" y="2833560"/>
            <a:ext cx="75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u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01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29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240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9"/>
          <a:stretch/>
        </p:blipFill>
        <p:spPr>
          <a:xfrm>
            <a:off x="27115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1240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0"/>
          <a:stretch/>
        </p:blipFill>
        <p:spPr>
          <a:xfrm>
            <a:off x="2031840" y="95580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 flipV="1">
            <a:off x="1944720" y="2481120"/>
            <a:ext cx="884160" cy="935280"/>
          </a:xfrm>
          <a:prstGeom prst="line">
            <a:avLst/>
          </a:prstGeom>
          <a:ln w="25560">
            <a:solidFill>
              <a:srgbClr val="008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1"/>
          <a:stretch/>
        </p:blipFill>
        <p:spPr>
          <a:xfrm>
            <a:off x="1111320" y="308916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5238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2"/>
          <a:stretch/>
        </p:blipFill>
        <p:spPr>
          <a:xfrm>
            <a:off x="11113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15238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360440" y="2330280"/>
            <a:ext cx="5133240" cy="2466000"/>
            <a:chOff x="1360440" y="2330280"/>
            <a:chExt cx="5133240" cy="2466000"/>
          </a:xfrm>
        </p:grpSpPr>
        <p:sp>
          <p:nvSpPr>
            <p:cNvPr id="483" name=""/>
            <p:cNvSpPr/>
            <p:nvPr/>
          </p:nvSpPr>
          <p:spPr>
            <a:xfrm>
              <a:off x="29606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48320" y="3321000"/>
              <a:ext cx="30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43360" y="4464000"/>
              <a:ext cx="237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606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3604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604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28320" y="4464000"/>
              <a:ext cx="31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155280" y="278748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161040" y="39304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752480" y="3448080"/>
            <a:ext cx="0" cy="503280"/>
          </a:xfrm>
          <a:prstGeom prst="line">
            <a:avLst/>
          </a:prstGeom>
          <a:ln w="25560">
            <a:solidFill>
              <a:srgbClr val="008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352680" y="3448080"/>
            <a:ext cx="0" cy="503280"/>
          </a:xfrm>
          <a:prstGeom prst="line">
            <a:avLst/>
          </a:prstGeom>
          <a:ln w="25560">
            <a:solidFill>
              <a:srgbClr val="008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1873080" y="423216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 flipV="1">
            <a:off x="1792440" y="2277720"/>
            <a:ext cx="1036440" cy="10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5238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241800" y="3354480"/>
            <a:ext cx="11127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994280" y="3354480"/>
            <a:ext cx="5032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18160" y="28018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24480" y="413388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459108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708280" y="4395960"/>
            <a:ext cx="8082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57480" y="3981600"/>
            <a:ext cx="0" cy="27432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166760" y="3981600"/>
            <a:ext cx="0" cy="8078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44040" y="420840"/>
            <a:ext cx="63118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11113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3"/>
          <a:stretch/>
        </p:blipFill>
        <p:spPr>
          <a:xfrm>
            <a:off x="27115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4"/>
          <a:stretch/>
        </p:blipFill>
        <p:spPr>
          <a:xfrm>
            <a:off x="438768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5"/>
          <a:stretch/>
        </p:blipFill>
        <p:spPr>
          <a:xfrm>
            <a:off x="5911920" y="256212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6"/>
          <a:stretch/>
        </p:blipFill>
        <p:spPr>
          <a:xfrm>
            <a:off x="5911920" y="3699000"/>
            <a:ext cx="863640" cy="51732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7"/>
          <a:stretch/>
        </p:blipFill>
        <p:spPr>
          <a:xfrm>
            <a:off x="3549600" y="4232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8"/>
          <a:stretch/>
        </p:blipFill>
        <p:spPr>
          <a:xfrm>
            <a:off x="584280" y="482616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9"/>
          <a:stretch/>
        </p:blipFill>
        <p:spPr>
          <a:xfrm>
            <a:off x="5156280" y="482616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1184400" y="1830240"/>
            <a:ext cx="23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367000" y="146700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31760" y="3963960"/>
            <a:ext cx="256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10160" y="2381400"/>
            <a:ext cx="0" cy="172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34040" y="25909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527800" y="272556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527800" y="386244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17960" y="4497480"/>
            <a:ext cx="21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491080" y="451476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241800" y="4878360"/>
            <a:ext cx="141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34480" y="1449360"/>
            <a:ext cx="3130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 and D Assert to Determin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er for the LAN, C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52560" y="108108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14480" y="3583080"/>
            <a:ext cx="925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e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801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29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238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0"/>
          <a:stretch/>
        </p:blipFill>
        <p:spPr>
          <a:xfrm>
            <a:off x="11113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15238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1240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1"/>
          <a:stretch/>
        </p:blipFill>
        <p:spPr>
          <a:xfrm>
            <a:off x="27115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31240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2"/>
          <a:stretch/>
        </p:blipFill>
        <p:spPr>
          <a:xfrm>
            <a:off x="2031840" y="955800"/>
            <a:ext cx="708120" cy="623880"/>
          </a:xfrm>
          <a:prstGeom prst="rect">
            <a:avLst/>
          </a:prstGeom>
          <a:ln w="0">
            <a:noFill/>
          </a:ln>
        </p:spPr>
      </p:pic>
      <p:grpSp>
        <p:nvGrpSpPr>
          <p:cNvPr id="537" name=""/>
          <p:cNvGrpSpPr/>
          <p:nvPr/>
        </p:nvGrpSpPr>
        <p:grpSpPr>
          <a:xfrm>
            <a:off x="1360440" y="2330280"/>
            <a:ext cx="5133240" cy="2466000"/>
            <a:chOff x="1360440" y="2330280"/>
            <a:chExt cx="5133240" cy="2466000"/>
          </a:xfrm>
        </p:grpSpPr>
        <p:sp>
          <p:nvSpPr>
            <p:cNvPr id="538" name=""/>
            <p:cNvSpPr/>
            <p:nvPr/>
          </p:nvSpPr>
          <p:spPr>
            <a:xfrm>
              <a:off x="29606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648320" y="3321000"/>
              <a:ext cx="30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843360" y="4464000"/>
              <a:ext cx="237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9606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3604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604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28320" y="4464000"/>
              <a:ext cx="31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55280" y="278748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61040" y="39304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462040" y="3981600"/>
            <a:ext cx="0" cy="27432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1873080" y="423216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5603760" y="2421000"/>
            <a:ext cx="351000" cy="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603760" y="3633840"/>
            <a:ext cx="351000" cy="0"/>
          </a:xfrm>
          <a:prstGeom prst="line">
            <a:avLst/>
          </a:prstGeom>
          <a:ln w="255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792440" y="2277720"/>
            <a:ext cx="1036440" cy="10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5238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240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41800" y="3354480"/>
            <a:ext cx="11127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94280" y="3354480"/>
            <a:ext cx="5032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518160" y="28018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324480" y="413388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62520" y="459108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708280" y="4243320"/>
            <a:ext cx="808200" cy="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08280" y="4395960"/>
            <a:ext cx="8082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57480" y="3981600"/>
            <a:ext cx="0" cy="27432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166760" y="3981600"/>
            <a:ext cx="0" cy="8078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44040" y="420840"/>
            <a:ext cx="63118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11113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27115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4"/>
          <a:stretch/>
        </p:blipFill>
        <p:spPr>
          <a:xfrm>
            <a:off x="438768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5"/>
          <a:stretch/>
        </p:blipFill>
        <p:spPr>
          <a:xfrm>
            <a:off x="5911920" y="256212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6"/>
          <a:stretch/>
        </p:blipFill>
        <p:spPr>
          <a:xfrm>
            <a:off x="5911920" y="3699000"/>
            <a:ext cx="863640" cy="51732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7"/>
          <a:stretch/>
        </p:blipFill>
        <p:spPr>
          <a:xfrm>
            <a:off x="3549600" y="4232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8"/>
          <a:stretch/>
        </p:blipFill>
        <p:spPr>
          <a:xfrm>
            <a:off x="584280" y="482616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9"/>
          <a:stretch/>
        </p:blipFill>
        <p:spPr>
          <a:xfrm>
            <a:off x="5156280" y="482616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1184400" y="1830240"/>
            <a:ext cx="23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367000" y="146700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031760" y="3963960"/>
            <a:ext cx="256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10160" y="2381400"/>
            <a:ext cx="0" cy="172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034040" y="25909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27800" y="272556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527800" y="386244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917960" y="4497480"/>
            <a:ext cx="21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491080" y="451476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41800" y="4878360"/>
            <a:ext cx="141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433400" y="1449360"/>
            <a:ext cx="2500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Gets Pru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’s Prune is Igno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’s Prune is Overrid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752560" y="108108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752560" y="3963960"/>
            <a:ext cx="852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u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01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29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970600" y="3432240"/>
            <a:ext cx="154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in Overr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029280" y="2287440"/>
            <a:ext cx="75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u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5238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0"/>
          <a:stretch/>
        </p:blipFill>
        <p:spPr>
          <a:xfrm>
            <a:off x="11113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5238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40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1"/>
          <a:stretch/>
        </p:blipFill>
        <p:spPr>
          <a:xfrm>
            <a:off x="27115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1240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2"/>
          <a:stretch/>
        </p:blipFill>
        <p:spPr>
          <a:xfrm>
            <a:off x="2031840" y="955800"/>
            <a:ext cx="708120" cy="623880"/>
          </a:xfrm>
          <a:prstGeom prst="rect">
            <a:avLst/>
          </a:prstGeom>
          <a:ln w="0">
            <a:noFill/>
          </a:ln>
        </p:spPr>
      </p:pic>
      <p:grpSp>
        <p:nvGrpSpPr>
          <p:cNvPr id="596" name=""/>
          <p:cNvGrpSpPr/>
          <p:nvPr/>
        </p:nvGrpSpPr>
        <p:grpSpPr>
          <a:xfrm>
            <a:off x="1360440" y="2330280"/>
            <a:ext cx="5133240" cy="2466000"/>
            <a:chOff x="1360440" y="2330280"/>
            <a:chExt cx="5133240" cy="2466000"/>
          </a:xfrm>
        </p:grpSpPr>
        <p:sp>
          <p:nvSpPr>
            <p:cNvPr id="597" name=""/>
            <p:cNvSpPr/>
            <p:nvPr/>
          </p:nvSpPr>
          <p:spPr>
            <a:xfrm>
              <a:off x="29606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48320" y="3321000"/>
              <a:ext cx="30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843360" y="4464000"/>
              <a:ext cx="237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9606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3604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3604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128320" y="4464000"/>
              <a:ext cx="31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155280" y="278748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61040" y="39304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1873080" y="423216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 flipV="1">
            <a:off x="1792440" y="2277720"/>
            <a:ext cx="1036440" cy="10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38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1240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241800" y="3354480"/>
            <a:ext cx="11127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94280" y="3354480"/>
            <a:ext cx="5032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518160" y="28018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324480" y="413388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962520" y="459108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429000" y="4896000"/>
            <a:ext cx="0" cy="274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708280" y="4243320"/>
            <a:ext cx="808200" cy="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08280" y="4395960"/>
            <a:ext cx="960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57480" y="3981600"/>
            <a:ext cx="0" cy="27432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166760" y="3981600"/>
            <a:ext cx="0" cy="8078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44040" y="420840"/>
            <a:ext cx="63118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11113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3"/>
          <a:stretch/>
        </p:blipFill>
        <p:spPr>
          <a:xfrm>
            <a:off x="27115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4"/>
          <a:stretch/>
        </p:blipFill>
        <p:spPr>
          <a:xfrm>
            <a:off x="438768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5"/>
          <a:stretch/>
        </p:blipFill>
        <p:spPr>
          <a:xfrm>
            <a:off x="5911920" y="256212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6"/>
          <a:stretch/>
        </p:blipFill>
        <p:spPr>
          <a:xfrm>
            <a:off x="5911920" y="3699000"/>
            <a:ext cx="863640" cy="51732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7"/>
          <a:stretch/>
        </p:blipFill>
        <p:spPr>
          <a:xfrm>
            <a:off x="3549600" y="4232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8"/>
          <a:stretch/>
        </p:blipFill>
        <p:spPr>
          <a:xfrm>
            <a:off x="584280" y="482616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9"/>
          <a:stretch/>
        </p:blipFill>
        <p:spPr>
          <a:xfrm>
            <a:off x="2870280" y="505476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10"/>
          <a:stretch/>
        </p:blipFill>
        <p:spPr>
          <a:xfrm>
            <a:off x="5156280" y="482616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1184400" y="1830240"/>
            <a:ext cx="23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367000" y="146700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031760" y="3963960"/>
            <a:ext cx="256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510160" y="2381400"/>
            <a:ext cx="0" cy="172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034040" y="25909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27800" y="272556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527800" y="386244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917960" y="4497480"/>
            <a:ext cx="21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491080" y="451476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41800" y="4878360"/>
            <a:ext cx="141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52560" y="108108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754360" y="396396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801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591360" y="51832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229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5238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1"/>
          <a:stretch/>
        </p:blipFill>
        <p:spPr>
          <a:xfrm>
            <a:off x="11113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15238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2"/>
          <a:stretch/>
        </p:blipFill>
        <p:spPr>
          <a:xfrm>
            <a:off x="27115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31240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3"/>
          <a:stretch/>
        </p:blipFill>
        <p:spPr>
          <a:xfrm>
            <a:off x="2031840" y="95580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4434120" y="1449360"/>
            <a:ext cx="2872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Receiver, I Sends G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1360440" y="2330280"/>
            <a:ext cx="5133240" cy="2466000"/>
            <a:chOff x="1360440" y="2330280"/>
            <a:chExt cx="5133240" cy="2466000"/>
          </a:xfrm>
        </p:grpSpPr>
        <p:sp>
          <p:nvSpPr>
            <p:cNvPr id="654" name=""/>
            <p:cNvSpPr/>
            <p:nvPr/>
          </p:nvSpPr>
          <p:spPr>
            <a:xfrm>
              <a:off x="29606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648320" y="3321000"/>
              <a:ext cx="30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843360" y="4464000"/>
              <a:ext cx="237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606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3604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3604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128320" y="4464000"/>
              <a:ext cx="31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155280" y="278748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161040" y="39304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85520" y="977760"/>
            <a:ext cx="6553080" cy="49068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9000"/>
          </a:bodyPr>
          <a:p>
            <a:pPr marL="254160" indent="-254160">
              <a:lnSpc>
                <a:spcPct val="95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hy multicast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24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n sending same data to multiple receiv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24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ter bandwidth utiliz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24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sser host/router proc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24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eivers’ addresses unknow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5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98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ideo/audio conferenc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8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ource discovery/service advertis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8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ock 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8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g. Vat, Vic, IP/TV, Pointc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44040" y="420840"/>
            <a:ext cx="598356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to Multica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1873080" y="423216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 flipV="1">
            <a:off x="1792440" y="2277720"/>
            <a:ext cx="1036440" cy="10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238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1240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241800" y="3354480"/>
            <a:ext cx="11127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994280" y="3354480"/>
            <a:ext cx="5032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518160" y="28018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324480" y="413388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962520" y="4667400"/>
            <a:ext cx="0" cy="27432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429000" y="497196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712960" y="4395960"/>
            <a:ext cx="809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57480" y="3981600"/>
            <a:ext cx="0" cy="27432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166760" y="3981600"/>
            <a:ext cx="0" cy="8078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44040" y="420840"/>
            <a:ext cx="63118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2"/>
          <a:stretch/>
        </p:blipFill>
        <p:spPr>
          <a:xfrm>
            <a:off x="11113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3"/>
          <a:stretch/>
        </p:blipFill>
        <p:spPr>
          <a:xfrm>
            <a:off x="27115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4"/>
          <a:stretch/>
        </p:blipFill>
        <p:spPr>
          <a:xfrm>
            <a:off x="438768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5"/>
          <a:stretch/>
        </p:blipFill>
        <p:spPr>
          <a:xfrm>
            <a:off x="5911920" y="256212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6"/>
          <a:stretch/>
        </p:blipFill>
        <p:spPr>
          <a:xfrm>
            <a:off x="5911920" y="3699000"/>
            <a:ext cx="863640" cy="51732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7"/>
          <a:stretch/>
        </p:blipFill>
        <p:spPr>
          <a:xfrm>
            <a:off x="3549600" y="4232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8"/>
          <a:stretch/>
        </p:blipFill>
        <p:spPr>
          <a:xfrm>
            <a:off x="584280" y="482616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9"/>
          <a:stretch/>
        </p:blipFill>
        <p:spPr>
          <a:xfrm>
            <a:off x="2870280" y="520704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10"/>
          <a:stretch/>
        </p:blipFill>
        <p:spPr>
          <a:xfrm>
            <a:off x="5156280" y="482616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1184400" y="1830240"/>
            <a:ext cx="23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367000" y="146700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031760" y="3963960"/>
            <a:ext cx="256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510160" y="2381400"/>
            <a:ext cx="0" cy="172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34040" y="25909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27800" y="272556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527800" y="386244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917960" y="4497480"/>
            <a:ext cx="21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491080" y="451476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241800" y="4954680"/>
            <a:ext cx="141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752560" y="108108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801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591360" y="51832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229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5238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1"/>
          <a:stretch/>
        </p:blipFill>
        <p:spPr>
          <a:xfrm>
            <a:off x="11113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>
            <a:off x="15238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1240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2"/>
          <a:stretch/>
        </p:blipFill>
        <p:spPr>
          <a:xfrm>
            <a:off x="27115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31240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3"/>
          <a:stretch/>
        </p:blipFill>
        <p:spPr>
          <a:xfrm>
            <a:off x="2031840" y="955800"/>
            <a:ext cx="708120" cy="623880"/>
          </a:xfrm>
          <a:prstGeom prst="rect">
            <a:avLst/>
          </a:prstGeom>
          <a:ln w="0">
            <a:noFill/>
          </a:ln>
        </p:spPr>
      </p:pic>
      <p:grpSp>
        <p:nvGrpSpPr>
          <p:cNvPr id="707" name=""/>
          <p:cNvGrpSpPr/>
          <p:nvPr/>
        </p:nvGrpSpPr>
        <p:grpSpPr>
          <a:xfrm>
            <a:off x="1360440" y="2330280"/>
            <a:ext cx="5133240" cy="2466000"/>
            <a:chOff x="1360440" y="2330280"/>
            <a:chExt cx="5133240" cy="2466000"/>
          </a:xfrm>
        </p:grpSpPr>
        <p:sp>
          <p:nvSpPr>
            <p:cNvPr id="708" name=""/>
            <p:cNvSpPr/>
            <p:nvPr/>
          </p:nvSpPr>
          <p:spPr>
            <a:xfrm>
              <a:off x="29606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48320" y="3321000"/>
              <a:ext cx="30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843360" y="4464000"/>
              <a:ext cx="237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9606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3604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3604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128320" y="4464000"/>
              <a:ext cx="31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155280" y="278748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161040" y="39304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239400" y="1023840"/>
            <a:ext cx="7645320" cy="4509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icit join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rs join to the Rendezvous Point (R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ers register with the R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flows down the shared tree and goes on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places that need the data from the 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hop routers can join source tree if the data rate warrants by sending joins to the sour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F check for the shared tree uses the R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F check for the source tre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s the sour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title"/>
          </p:nvPr>
        </p:nvSpPr>
        <p:spPr>
          <a:xfrm>
            <a:off x="644040" y="420840"/>
            <a:ext cx="434052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328320" y="1642320"/>
            <a:ext cx="7467480" cy="32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ly one RP is chosen for a particular gro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P statically configured or dynamically learned (Auto-RP, PIM v2 candidate RP advertisemen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forwarded based on the source state (S, G)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it exists, otherwise use the shared state (*, 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raft: draft-ietf-idmr-pim-sm-specv2-00.tx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raft: draft-ietf-idmr-pim-arch-04.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title"/>
          </p:nvPr>
        </p:nvSpPr>
        <p:spPr>
          <a:xfrm>
            <a:off x="644040" y="420840"/>
            <a:ext cx="434052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162160" y="2914560"/>
            <a:ext cx="71928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027240" y="2773080"/>
            <a:ext cx="1527120" cy="9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1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2803680" y="3916440"/>
            <a:ext cx="0" cy="59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286000" y="2165400"/>
            <a:ext cx="0" cy="56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568760" y="3909960"/>
            <a:ext cx="0" cy="59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2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4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5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6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7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 flipV="1">
            <a:off x="2575080" y="4529160"/>
            <a:ext cx="0" cy="51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8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9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6127920" y="1144440"/>
            <a:ext cx="1511280" cy="920520"/>
            <a:chOff x="6127920" y="1144440"/>
            <a:chExt cx="1511280" cy="920520"/>
          </a:xfrm>
        </p:grpSpPr>
        <p:sp>
          <p:nvSpPr>
            <p:cNvPr id="755" name=""/>
            <p:cNvSpPr/>
            <p:nvPr/>
          </p:nvSpPr>
          <p:spPr>
            <a:xfrm>
              <a:off x="6127920" y="1150920"/>
              <a:ext cx="1511280" cy="90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215040" y="1341360"/>
              <a:ext cx="42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215040" y="1603440"/>
              <a:ext cx="4269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215040" y="1830240"/>
              <a:ext cx="426960" cy="0"/>
            </a:xfrm>
            <a:prstGeom prst="line">
              <a:avLst/>
            </a:prstGeom>
            <a:ln w="25560">
              <a:solidFill>
                <a:srgbClr val="008a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215040" y="1906560"/>
              <a:ext cx="426960" cy="0"/>
            </a:xfrm>
            <a:prstGeom prst="line">
              <a:avLst/>
            </a:prstGeom>
            <a:ln w="25560">
              <a:solidFill>
                <a:srgbClr val="ffe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717960" y="1144440"/>
              <a:ext cx="900720" cy="9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162160" y="2914560"/>
            <a:ext cx="71928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316400" y="1122480"/>
            <a:ext cx="2717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 Joins Group 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 Creates (*, G) State, Send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*, G) Join to the 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3027240" y="2773080"/>
            <a:ext cx="1527120" cy="9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286000" y="2165400"/>
            <a:ext cx="0" cy="56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3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4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5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6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7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 flipV="1">
            <a:off x="2575080" y="4529160"/>
            <a:ext cx="0" cy="51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8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9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3214800" y="3001680"/>
            <a:ext cx="1214280" cy="780840"/>
          </a:xfrm>
          <a:prstGeom prst="line">
            <a:avLst/>
          </a:prstGeom>
          <a:ln w="25560">
            <a:solidFill>
              <a:srgbClr val="008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044960" y="3327480"/>
            <a:ext cx="528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162160" y="2914560"/>
            <a:ext cx="71928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316400" y="1122480"/>
            <a:ext cx="21081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 Creates (*, G)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1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812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86000" y="2165400"/>
            <a:ext cx="0" cy="56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2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3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4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5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6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7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 flipV="1">
            <a:off x="2575080" y="4529160"/>
            <a:ext cx="0" cy="51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8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9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162160" y="2914560"/>
            <a:ext cx="71928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316400" y="1122480"/>
            <a:ext cx="26416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 Sends Dat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Sends Registers to the 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1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846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28600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2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856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3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4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5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6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3047400" y="1960560"/>
            <a:ext cx="87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309760" y="2287440"/>
            <a:ext cx="2211480" cy="459000"/>
          </a:xfrm>
          <a:custGeom>
            <a:avLst/>
            <a:gdLst/>
            <a:ahLst/>
            <a:rect l="l" t="t" r="r" b="b"/>
            <a:pathLst>
              <a:path w="1393" h="289">
                <a:moveTo>
                  <a:pt x="1392" y="192"/>
                </a:moveTo>
                <a:lnTo>
                  <a:pt x="1200" y="0"/>
                </a:lnTo>
                <a:lnTo>
                  <a:pt x="288" y="0"/>
                </a:lnTo>
                <a:lnTo>
                  <a:pt x="0" y="288"/>
                </a:lnTo>
              </a:path>
            </a:pathLst>
          </a:custGeom>
          <a:noFill/>
          <a:ln cap="rnd" w="25560">
            <a:solidFill>
              <a:srgbClr val="008aae"/>
            </a:solidFill>
            <a:round/>
            <a:head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7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 flipV="1">
            <a:off x="2575080" y="4529160"/>
            <a:ext cx="0" cy="51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8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9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162160" y="2914560"/>
            <a:ext cx="71928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316400" y="1122480"/>
            <a:ext cx="3403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 de-encapsulates Register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wards Data Down the Shared Tre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Joins Towards the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1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882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28600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1" name="" descr=""/>
          <p:cNvPicPr/>
          <p:nvPr/>
        </p:nvPicPr>
        <p:blipFill>
          <a:blip r:embed="rId2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3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893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4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895" name="" descr=""/>
          <p:cNvPicPr/>
          <p:nvPr/>
        </p:nvPicPr>
        <p:blipFill>
          <a:blip r:embed="rId5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896" name="" descr=""/>
          <p:cNvPicPr/>
          <p:nvPr/>
        </p:nvPicPr>
        <p:blipFill>
          <a:blip r:embed="rId6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7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898" name=""/>
          <p:cNvSpPr/>
          <p:nvPr/>
        </p:nvSpPr>
        <p:spPr>
          <a:xfrm flipV="1">
            <a:off x="257508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598840" y="2676600"/>
            <a:ext cx="663480" cy="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8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/>
          <p:nvPr/>
        </p:nvSpPr>
        <p:spPr>
          <a:xfrm>
            <a:off x="3741840" y="2676600"/>
            <a:ext cx="663480" cy="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9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2841840" y="2341440"/>
            <a:ext cx="528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08520" y="2341440"/>
            <a:ext cx="528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162160" y="2914560"/>
            <a:ext cx="71928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6350040" y="2506320"/>
            <a:ext cx="0" cy="554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316400" y="1122480"/>
            <a:ext cx="2717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 Sends Register-Stop Onc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Arrives Native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28600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2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3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930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4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932" name="" descr=""/>
          <p:cNvPicPr/>
          <p:nvPr/>
        </p:nvPicPr>
        <p:blipFill>
          <a:blip r:embed="rId5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933" name="" descr=""/>
          <p:cNvPicPr/>
          <p:nvPr/>
        </p:nvPicPr>
        <p:blipFill>
          <a:blip r:embed="rId6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934" name="" descr=""/>
          <p:cNvPicPr/>
          <p:nvPr/>
        </p:nvPicPr>
        <p:blipFill>
          <a:blip r:embed="rId7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"/>
          <p:cNvPicPr/>
          <p:nvPr/>
        </p:nvPicPr>
        <p:blipFill>
          <a:blip r:embed="rId8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2819520" y="1960560"/>
            <a:ext cx="13302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er-St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462040" y="2287440"/>
            <a:ext cx="2211480" cy="459000"/>
          </a:xfrm>
          <a:custGeom>
            <a:avLst/>
            <a:gdLst/>
            <a:ahLst/>
            <a:rect l="l" t="t" r="r" b="b"/>
            <a:pathLst>
              <a:path w="1393" h="289">
                <a:moveTo>
                  <a:pt x="1392" y="288"/>
                </a:moveTo>
                <a:lnTo>
                  <a:pt x="1104" y="0"/>
                </a:lnTo>
                <a:lnTo>
                  <a:pt x="192" y="0"/>
                </a:lnTo>
                <a:lnTo>
                  <a:pt x="0" y="192"/>
                </a:lnTo>
              </a:path>
            </a:pathLst>
          </a:custGeom>
          <a:noFill/>
          <a:ln cap="rnd" w="25560">
            <a:solidFill>
              <a:srgbClr val="008aae"/>
            </a:solidFill>
            <a:round/>
            <a:tail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9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 flipV="1">
            <a:off x="257508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633760" y="2820960"/>
            <a:ext cx="4269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776760" y="2820960"/>
            <a:ext cx="4269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919760" y="2820960"/>
            <a:ext cx="42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910120" y="2820960"/>
            <a:ext cx="427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162160" y="2914560"/>
            <a:ext cx="71928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316400" y="1122480"/>
            <a:ext cx="28702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 Sends (S, G) Joins to Join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ortest Path (SPT) T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8" name="" descr=""/>
          <p:cNvPicPr/>
          <p:nvPr/>
        </p:nvPicPr>
        <p:blipFill>
          <a:blip r:embed="rId1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59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28600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257508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9" name="" descr=""/>
          <p:cNvPicPr/>
          <p:nvPr/>
        </p:nvPicPr>
        <p:blipFill>
          <a:blip r:embed="rId2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970" name="" descr=""/>
          <p:cNvPicPr/>
          <p:nvPr/>
        </p:nvPicPr>
        <p:blipFill>
          <a:blip r:embed="rId3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4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973" name="" descr=""/>
          <p:cNvPicPr/>
          <p:nvPr/>
        </p:nvPicPr>
        <p:blipFill>
          <a:blip r:embed="rId5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974" name="" descr=""/>
          <p:cNvPicPr/>
          <p:nvPr/>
        </p:nvPicPr>
        <p:blipFill>
          <a:blip r:embed="rId6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75" name=""/>
          <p:cNvSpPr/>
          <p:nvPr/>
        </p:nvSpPr>
        <p:spPr>
          <a:xfrm>
            <a:off x="3614760" y="2790720"/>
            <a:ext cx="6634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6" name="" descr=""/>
          <p:cNvPicPr/>
          <p:nvPr/>
        </p:nvPicPr>
        <p:blipFill>
          <a:blip r:embed="rId7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77" name=""/>
          <p:cNvSpPr/>
          <p:nvPr/>
        </p:nvSpPr>
        <p:spPr>
          <a:xfrm>
            <a:off x="2471760" y="2790720"/>
            <a:ext cx="6634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8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79" name=""/>
          <p:cNvSpPr/>
          <p:nvPr/>
        </p:nvSpPr>
        <p:spPr>
          <a:xfrm>
            <a:off x="1933560" y="2990880"/>
            <a:ext cx="642960" cy="64296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9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1358280" y="34844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, G) 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4400" y="420840"/>
            <a:ext cx="425952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Unicast/Multica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4400" y="2114640"/>
            <a:ext cx="689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79800" y="2724120"/>
            <a:ext cx="91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97920" y="1568520"/>
            <a:ext cx="1281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9800" y="1901880"/>
            <a:ext cx="79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15000" y="2073240"/>
            <a:ext cx="7920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41920" y="2049480"/>
            <a:ext cx="492120" cy="5428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15000" y="3193920"/>
            <a:ext cx="7920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052880" y="2138400"/>
            <a:ext cx="517680" cy="293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9520" y="2173320"/>
            <a:ext cx="7923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54040" y="2322360"/>
            <a:ext cx="7923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646360" y="1227240"/>
            <a:ext cx="492120" cy="54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797200" y="1377720"/>
            <a:ext cx="417600" cy="468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90800" y="1812600"/>
            <a:ext cx="55728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44920" y="1201680"/>
            <a:ext cx="9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70120" y="1351080"/>
            <a:ext cx="7923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70280" y="2376360"/>
            <a:ext cx="566640" cy="56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95760" y="2525760"/>
            <a:ext cx="566640" cy="566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49600" y="1852560"/>
            <a:ext cx="492120" cy="493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75080" y="2003400"/>
            <a:ext cx="566640" cy="566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75080" y="2227320"/>
            <a:ext cx="566640" cy="566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79800" y="3000240"/>
            <a:ext cx="79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05000" y="187488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05000" y="2023920"/>
            <a:ext cx="7920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52320" y="1506600"/>
            <a:ext cx="711360" cy="627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44400" y="4629240"/>
            <a:ext cx="689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79800" y="5238720"/>
            <a:ext cx="91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96480" y="4078440"/>
            <a:ext cx="1504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9800" y="4438800"/>
            <a:ext cx="1128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5000" y="4587840"/>
            <a:ext cx="7920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841920" y="4564080"/>
            <a:ext cx="492120" cy="5428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15000" y="5708520"/>
            <a:ext cx="7920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646360" y="3741840"/>
            <a:ext cx="492120" cy="54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797200" y="3892320"/>
            <a:ext cx="417600" cy="468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787920" y="4350960"/>
            <a:ext cx="536400" cy="608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44920" y="3716280"/>
            <a:ext cx="1003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44920" y="3867120"/>
            <a:ext cx="7920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13120" y="4933800"/>
            <a:ext cx="492120" cy="49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95760" y="5040360"/>
            <a:ext cx="566640" cy="566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139920" y="3497400"/>
            <a:ext cx="831960" cy="498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141720" y="4767120"/>
            <a:ext cx="831960" cy="498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649600" y="4367160"/>
            <a:ext cx="492120" cy="493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75080" y="4518000"/>
            <a:ext cx="566640" cy="566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7840" y="5559480"/>
            <a:ext cx="99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05000" y="438948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05000" y="4538520"/>
            <a:ext cx="7920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52320" y="4021200"/>
            <a:ext cx="711360" cy="627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2062080" y="4084560"/>
            <a:ext cx="831960" cy="498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302000" y="1644480"/>
            <a:ext cx="831960" cy="498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3139920" y="982800"/>
            <a:ext cx="831960" cy="498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3141720" y="2252520"/>
            <a:ext cx="831960" cy="498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2062080" y="1569960"/>
            <a:ext cx="831960" cy="498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4302000" y="2776680"/>
            <a:ext cx="831960" cy="498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4302000" y="4159080"/>
            <a:ext cx="831960" cy="498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2"/>
          <a:stretch/>
        </p:blipFill>
        <p:spPr>
          <a:xfrm>
            <a:off x="4302000" y="5291280"/>
            <a:ext cx="831960" cy="498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3"/>
          <a:stretch/>
        </p:blipFill>
        <p:spPr>
          <a:xfrm>
            <a:off x="5692680" y="1560600"/>
            <a:ext cx="711360" cy="627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4"/>
          <a:stretch/>
        </p:blipFill>
        <p:spPr>
          <a:xfrm>
            <a:off x="5692680" y="2700360"/>
            <a:ext cx="711360" cy="628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5"/>
          <a:stretch/>
        </p:blipFill>
        <p:spPr>
          <a:xfrm>
            <a:off x="5692680" y="4095720"/>
            <a:ext cx="711360" cy="627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6"/>
          <a:stretch/>
        </p:blipFill>
        <p:spPr>
          <a:xfrm>
            <a:off x="5692680" y="5214960"/>
            <a:ext cx="711360" cy="628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7"/>
          <a:stretch/>
        </p:blipFill>
        <p:spPr>
          <a:xfrm>
            <a:off x="4363920" y="919080"/>
            <a:ext cx="711360" cy="628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8"/>
          <a:stretch/>
        </p:blipFill>
        <p:spPr>
          <a:xfrm>
            <a:off x="4363920" y="3433680"/>
            <a:ext cx="711360" cy="628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162160" y="2914560"/>
            <a:ext cx="592200" cy="59220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598840" y="2676600"/>
            <a:ext cx="663480" cy="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16400" y="1122480"/>
            <a:ext cx="34034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n C Receives Data Natively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 Sends Prunes Up the RP tree fo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ource. RP Deletes (S, G) OIF 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Prune Towards the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7" name="" descr=""/>
          <p:cNvPicPr/>
          <p:nvPr/>
        </p:nvPicPr>
        <p:blipFill>
          <a:blip r:embed="rId1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98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28600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257508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8" name="" descr=""/>
          <p:cNvPicPr/>
          <p:nvPr/>
        </p:nvPicPr>
        <p:blipFill>
          <a:blip r:embed="rId2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1009" name="" descr=""/>
          <p:cNvPicPr/>
          <p:nvPr/>
        </p:nvPicPr>
        <p:blipFill>
          <a:blip r:embed="rId3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/>
          <p:cNvPicPr/>
          <p:nvPr/>
        </p:nvPicPr>
        <p:blipFill>
          <a:blip r:embed="rId4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1011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2" name="" descr=""/>
          <p:cNvPicPr/>
          <p:nvPr/>
        </p:nvPicPr>
        <p:blipFill>
          <a:blip r:embed="rId5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1013" name="" descr=""/>
          <p:cNvPicPr/>
          <p:nvPr/>
        </p:nvPicPr>
        <p:blipFill>
          <a:blip r:embed="rId6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014" name=""/>
          <p:cNvSpPr/>
          <p:nvPr/>
        </p:nvSpPr>
        <p:spPr>
          <a:xfrm flipV="1">
            <a:off x="3214800" y="3001680"/>
            <a:ext cx="1214280" cy="780840"/>
          </a:xfrm>
          <a:prstGeom prst="line">
            <a:avLst/>
          </a:prstGeom>
          <a:ln w="25560">
            <a:solidFill>
              <a:srgbClr val="008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954600" y="3327480"/>
            <a:ext cx="17798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, G) RP Bit Pr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741840" y="2676600"/>
            <a:ext cx="663480" cy="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7" name="" descr=""/>
          <p:cNvPicPr/>
          <p:nvPr/>
        </p:nvPicPr>
        <p:blipFill>
          <a:blip r:embed="rId7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3614760" y="2790720"/>
            <a:ext cx="6634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9" name="" descr=""/>
          <p:cNvPicPr/>
          <p:nvPr/>
        </p:nvPicPr>
        <p:blipFill>
          <a:blip r:embed="rId8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020" name=""/>
          <p:cNvSpPr/>
          <p:nvPr/>
        </p:nvSpPr>
        <p:spPr>
          <a:xfrm>
            <a:off x="2471760" y="2790720"/>
            <a:ext cx="6634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1" name="" descr=""/>
          <p:cNvPicPr/>
          <p:nvPr/>
        </p:nvPicPr>
        <p:blipFill>
          <a:blip r:embed="rId9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022" name=""/>
          <p:cNvSpPr/>
          <p:nvPr/>
        </p:nvSpPr>
        <p:spPr>
          <a:xfrm>
            <a:off x="2847600" y="2286000"/>
            <a:ext cx="1194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, G) Pr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316400" y="1122480"/>
            <a:ext cx="34034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Receiver 2 Joi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 Creates State and Sends (*, G) 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162160" y="2914560"/>
            <a:ext cx="592200" cy="59220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"/>
          <p:cNvPicPr/>
          <p:nvPr/>
        </p:nvPicPr>
        <p:blipFill>
          <a:blip r:embed="rId2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039" name="" descr=""/>
          <p:cNvPicPr/>
          <p:nvPr/>
        </p:nvPicPr>
        <p:blipFill>
          <a:blip r:embed="rId3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040" name="" descr=""/>
          <p:cNvPicPr/>
          <p:nvPr/>
        </p:nvPicPr>
        <p:blipFill>
          <a:blip r:embed="rId4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041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28600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257508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5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1052" name="" descr=""/>
          <p:cNvPicPr/>
          <p:nvPr/>
        </p:nvPicPr>
        <p:blipFill>
          <a:blip r:embed="rId6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1053" name="" descr=""/>
          <p:cNvPicPr/>
          <p:nvPr/>
        </p:nvPicPr>
        <p:blipFill>
          <a:blip r:embed="rId7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1054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5" name="" descr=""/>
          <p:cNvPicPr/>
          <p:nvPr/>
        </p:nvPicPr>
        <p:blipFill>
          <a:blip r:embed="rId8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1056" name=""/>
          <p:cNvSpPr/>
          <p:nvPr/>
        </p:nvSpPr>
        <p:spPr>
          <a:xfrm>
            <a:off x="3165480" y="3786120"/>
            <a:ext cx="1265400" cy="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9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058" name=""/>
          <p:cNvSpPr/>
          <p:nvPr/>
        </p:nvSpPr>
        <p:spPr>
          <a:xfrm>
            <a:off x="3499560" y="3403440"/>
            <a:ext cx="1006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*, G) 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316400" y="1122480"/>
            <a:ext cx="3403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 Adds Link Towards E to the OI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 of Both (*, G) and (S, G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from Source Arrives at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162160" y="2914560"/>
            <a:ext cx="592200" cy="59220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1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074" name="" descr=""/>
          <p:cNvPicPr/>
          <p:nvPr/>
        </p:nvPicPr>
        <p:blipFill>
          <a:blip r:embed="rId2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075" name="" descr=""/>
          <p:cNvPicPr/>
          <p:nvPr/>
        </p:nvPicPr>
        <p:blipFill>
          <a:blip r:embed="rId3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076" name="" descr=""/>
          <p:cNvPicPr/>
          <p:nvPr/>
        </p:nvPicPr>
        <p:blipFill>
          <a:blip r:embed="rId4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077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809800" y="3938760"/>
            <a:ext cx="13413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28600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257508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7" name="" descr=""/>
          <p:cNvPicPr/>
          <p:nvPr/>
        </p:nvPicPr>
        <p:blipFill>
          <a:blip r:embed="rId5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1088" name="" descr=""/>
          <p:cNvPicPr/>
          <p:nvPr/>
        </p:nvPicPr>
        <p:blipFill>
          <a:blip r:embed="rId6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089" name="" descr=""/>
          <p:cNvPicPr/>
          <p:nvPr/>
        </p:nvPicPr>
        <p:blipFill>
          <a:blip r:embed="rId7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1090" name="" descr=""/>
          <p:cNvPicPr/>
          <p:nvPr/>
        </p:nvPicPr>
        <p:blipFill>
          <a:blip r:embed="rId8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1091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2" name="" descr=""/>
          <p:cNvPicPr/>
          <p:nvPr/>
        </p:nvPicPr>
        <p:blipFill>
          <a:blip r:embed="rId9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316400" y="1122480"/>
            <a:ext cx="34034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Source Starts Send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 Sends Registers, RP Sends Joi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 Forwards Data to Receiver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ough Shared T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162160" y="2914560"/>
            <a:ext cx="592200" cy="59220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7" name="" descr=""/>
          <p:cNvPicPr/>
          <p:nvPr/>
        </p:nvPicPr>
        <p:blipFill>
          <a:blip r:embed="rId1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108" name="" descr=""/>
          <p:cNvPicPr/>
          <p:nvPr/>
        </p:nvPicPr>
        <p:blipFill>
          <a:blip r:embed="rId2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109" name="" descr=""/>
          <p:cNvPicPr/>
          <p:nvPr/>
        </p:nvPicPr>
        <p:blipFill>
          <a:blip r:embed="rId3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110" name="" descr=""/>
          <p:cNvPicPr/>
          <p:nvPr/>
        </p:nvPicPr>
        <p:blipFill>
          <a:blip r:embed="rId4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111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809800" y="3938760"/>
            <a:ext cx="13413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28600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257508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1" name="" descr=""/>
          <p:cNvPicPr/>
          <p:nvPr/>
        </p:nvPicPr>
        <p:blipFill>
          <a:blip r:embed="rId5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1122" name="" descr=""/>
          <p:cNvPicPr/>
          <p:nvPr/>
        </p:nvPicPr>
        <p:blipFill>
          <a:blip r:embed="rId6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123" name=""/>
          <p:cNvSpPr/>
          <p:nvPr/>
        </p:nvSpPr>
        <p:spPr>
          <a:xfrm>
            <a:off x="6340320" y="2654280"/>
            <a:ext cx="47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7"/>
          <a:stretch/>
        </p:blipFill>
        <p:spPr>
          <a:xfrm>
            <a:off x="6691320" y="237168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/>
          <p:cNvPicPr/>
          <p:nvPr/>
        </p:nvPicPr>
        <p:blipFill>
          <a:blip r:embed="rId8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1126" name="" descr=""/>
          <p:cNvPicPr/>
          <p:nvPr/>
        </p:nvPicPr>
        <p:blipFill>
          <a:blip r:embed="rId9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8" name="" descr=""/>
          <p:cNvPicPr/>
          <p:nvPr/>
        </p:nvPicPr>
        <p:blipFill>
          <a:blip r:embed="rId10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1129" name=""/>
          <p:cNvSpPr/>
          <p:nvPr/>
        </p:nvSpPr>
        <p:spPr>
          <a:xfrm>
            <a:off x="6532200" y="2951280"/>
            <a:ext cx="915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866920" y="2189160"/>
            <a:ext cx="87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138560" y="2363760"/>
            <a:ext cx="2059200" cy="306360"/>
          </a:xfrm>
          <a:custGeom>
            <a:avLst/>
            <a:gdLst/>
            <a:ahLst/>
            <a:rect l="l" t="t" r="r" b="b"/>
            <a:pathLst>
              <a:path w="1297" h="193">
                <a:moveTo>
                  <a:pt x="1296" y="192"/>
                </a:moveTo>
                <a:lnTo>
                  <a:pt x="1104" y="0"/>
                </a:lnTo>
                <a:lnTo>
                  <a:pt x="192" y="0"/>
                </a:lnTo>
                <a:lnTo>
                  <a:pt x="0" y="192"/>
                </a:lnTo>
              </a:path>
            </a:pathLst>
          </a:custGeom>
          <a:noFill/>
          <a:ln cap="rnd" w="25560">
            <a:solidFill>
              <a:srgbClr val="008aae"/>
            </a:solidFill>
            <a:round/>
            <a:tail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TL sco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keep multicast traffic within an administrative domain by setting ttl thresholds on interfaces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the border ro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ministratively scoped addr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multicast boundary can be setup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the borders for addresses in range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f 239.0.0.0–239.255.255.25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ter than ttl scoping (pruning, solid wal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Feature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Scope Contr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/>
          </p:nvPr>
        </p:nvSpPr>
        <p:spPr>
          <a:xfrm>
            <a:off x="406080" y="156672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2000"/>
          </a:bodyPr>
          <a:p>
            <a:pPr marL="210600" indent="-21060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ulticast rate-limit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the rate at which a send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send traffic to a gro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 and output rate-limits pos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0600" indent="-21060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urce-tree threshold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PIM-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 to SPT tree, if rate exceed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hresho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d tree saves s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Feature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/>
          </p:nvPr>
        </p:nvSpPr>
        <p:spPr>
          <a:xfrm>
            <a:off x="406080" y="16430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9000"/>
          </a:bodyPr>
          <a:p>
            <a:pPr marL="228600" indent="-22860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operability for different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ulticast protocol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IM/DVMRP interoperabilit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on between PIM SM/DM regio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DVMRP reg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BONE conn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IM-SM/PIM-DM interoperabilit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P has to be the border rou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Feature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rder Router Functiona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/>
          </p:nvPr>
        </p:nvSpPr>
        <p:spPr>
          <a:xfrm>
            <a:off x="406080" y="1525320"/>
            <a:ext cx="7311960" cy="3616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0000"/>
          </a:bodyPr>
          <a:p>
            <a:pPr marL="231120" indent="-23112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 of Ethernet bridges/switch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88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ward all multicast traffic to all po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120" indent="-23112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men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88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GMP snoop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40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goes to segments with routers and memb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40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suppression per seg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88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P (Cisco Group Management Protoco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40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co routers tell switches abou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/member seg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40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tches do not snoop into IGMP packe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Feature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 Multicast and Switch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7000"/>
          </a:bodyPr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P multicast fast switching/fastdr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P multicast rate-limit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P multicast static rout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mtrace/mrinfo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IM NBMA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IM SPT threshold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sco Deliverables (11.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7000"/>
          </a:bodyPr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coped address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GMP v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GMP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uto-R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DR listener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elper ma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sco Deliverables (11.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37800" y="1171080"/>
            <a:ext cx="6248520" cy="4212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177840" indent="-17784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FC 111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ch multicast group identified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 a class D IP addre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mbers of the group could be present anywhere in the 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mbers join and leave the group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d indicate this to the rou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nders and receivers are distinct: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.e., a sender need not be a me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uters listen to all multicast addresse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d use multicast routing protocol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manage grou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44040" y="420840"/>
            <a:ext cx="6394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 Multicast Service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1.1 CC branc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s ISP branch (FIB/CEF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FIB”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s MBGP, MDFS, CEF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sco Deliverables (11.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3000"/>
          </a:bodyPr>
          <a:p>
            <a:pPr marL="213120" indent="-213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1.2F featur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M over AT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VMRP interoperability enhanc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3120" indent="-213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1.3 featur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M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improv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cast tags switc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3120" indent="-213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2.0 featur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sco Deliverab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6000"/>
          </a:bodyPr>
          <a:p>
            <a:pPr marL="246600" indent="-24660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ttp://www.mbone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tp://ftpeng.cisco.com/ipmulticast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tp://ftpeng.cisco.com/ipmultic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port e-mai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312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ulticast—support@cisco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BONE—open session “cisco PIM user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ease recomme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312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ble—11.1(9) new features—11.3, 11.3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1487520" y="1154160"/>
            <a:ext cx="5133960" cy="3787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P Multicast Service Model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06080" y="1982520"/>
            <a:ext cx="7311960" cy="3159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75000"/>
          </a:bodyPr>
          <a:p>
            <a:pPr marL="192600" indent="-192600">
              <a:lnSpc>
                <a:spcPct val="93000"/>
              </a:lnSpc>
              <a:spcBef>
                <a:spcPts val="11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P group addr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728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lass D address—high-order 3 bits are set (224.0.0.0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7728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nge from 224.0.0.0 through 239.255.255.25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600" indent="-192600">
              <a:lnSpc>
                <a:spcPct val="93000"/>
              </a:lnSpc>
              <a:spcBef>
                <a:spcPts val="11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ll known addresses designated by IA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728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served use: 224.0.0.0 through 224.0.0.25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7024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24.0.0.1—all multicast systems on sub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7024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24.0.0.2—all routers on sub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600" indent="-192600">
              <a:lnSpc>
                <a:spcPct val="93000"/>
              </a:lnSpc>
              <a:spcBef>
                <a:spcPts val="11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ient addresses, assigne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reclaimed dynamical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728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lobal scope: 224.0.1.0-238.255.255.25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7728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mited scope: 239.0.0.0-239.255.255.25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7024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ite-local scope: 239.253.0.0/1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7024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rganization-local scope: 239.192.0.0/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P Multicast Service Model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pping IP group addresses to data link multicast addr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FC 1112 defines OUI 0x01005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ow-order 23-bits of IP address map into low-order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3 bits of IEEE address (eg. 224.2.2.2–01005e.02020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thernet and FDDI use this map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ken Ring uses functional address-c000.4000.0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IP Multicast Service Model (Cont.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23600" y="1965240"/>
            <a:ext cx="102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23600" y="3605040"/>
            <a:ext cx="1332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6160" y="1276200"/>
            <a:ext cx="3714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-to-Router Protocols (IG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57240" y="5086440"/>
            <a:ext cx="4170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cast Routing Protocols (P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670120" y="2278080"/>
            <a:ext cx="0" cy="78264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041720" y="2278080"/>
            <a:ext cx="0" cy="78264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413320" y="2278080"/>
            <a:ext cx="0" cy="78264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30560" y="1762200"/>
            <a:ext cx="917280" cy="807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602160" y="1762200"/>
            <a:ext cx="917280" cy="807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973760" y="1762200"/>
            <a:ext cx="917280" cy="807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282840" y="3828960"/>
            <a:ext cx="808200" cy="80820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3629160" y="453708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3394080" y="3040200"/>
            <a:ext cx="0" cy="78264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689360" y="3040200"/>
            <a:ext cx="0" cy="78264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981160" y="3546360"/>
            <a:ext cx="2159280" cy="517680"/>
            <a:chOff x="2981160" y="3546360"/>
            <a:chExt cx="2159280" cy="517680"/>
          </a:xfrm>
        </p:grpSpPr>
        <p:pic>
          <p:nvPicPr>
            <p:cNvPr id="142" name="" descr=""/>
            <p:cNvPicPr/>
            <p:nvPr/>
          </p:nvPicPr>
          <p:blipFill>
            <a:blip r:embed="rId5"/>
            <a:stretch/>
          </p:blipFill>
          <p:spPr>
            <a:xfrm>
              <a:off x="2981160" y="3546360"/>
              <a:ext cx="86364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6"/>
            <a:stretch/>
          </p:blipFill>
          <p:spPr>
            <a:xfrm>
              <a:off x="4276800" y="3546360"/>
              <a:ext cx="863640" cy="51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/>
          <p:nvPr/>
        </p:nvSpPr>
        <p:spPr>
          <a:xfrm>
            <a:off x="2039760" y="3049560"/>
            <a:ext cx="400860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Group Management Protocol—IGM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35040" y="1414440"/>
            <a:ext cx="685800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hosts tell routers about group members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outers solicit group membership from directly connected h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C 1112 specifies first version of IG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GMP v2 and IGMP v3 enhanc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ported on UNIX systems, PCs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 MA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9360" y="0"/>
            <a:ext cx="614160" cy="866880"/>
            <a:chOff x="-9360" y="0"/>
            <a:chExt cx="614160" cy="866880"/>
          </a:xfrm>
        </p:grpSpPr>
        <p:sp>
          <p:nvSpPr>
            <p:cNvPr id="148" name=""/>
            <p:cNvSpPr/>
            <p:nvPr/>
          </p:nvSpPr>
          <p:spPr>
            <a:xfrm>
              <a:off x="3240" y="6480"/>
              <a:ext cx="58248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0" y="420840"/>
              <a:ext cx="58248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-9360" y="414360"/>
              <a:ext cx="614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-324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7655040" y="5889600"/>
            <a:ext cx="2034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360" y="5792760"/>
            <a:ext cx="105408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940_03F8_c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W98_US_10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5T10:26:21Z</dcterms:created>
  <dc:creator>Manoj Leelanivas</dc:creator>
  <dc:description/>
  <dc:language>en-US</dc:language>
  <cp:lastModifiedBy>Ignacio Martinez</cp:lastModifiedBy>
  <cp:lastPrinted>1998-11-30T15:28:18Z</cp:lastPrinted>
  <dcterms:modified xsi:type="dcterms:W3CDTF">1998-11-30T15:56:55Z</dcterms:modified>
  <cp:revision>2</cp:revision>
  <dc:subject/>
  <dc:title>Introduction to IP Multicast</dc:title>
</cp:coreProperties>
</file>