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018D-B343-4557-883C-76807A261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9C25-DFA6-4454-98D7-C1F94410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378B-109E-4726-BDE1-080218285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E4F9-34CC-4029-BAA0-3B1A5A70A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95E2E-094B-4311-A7BF-086158A75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6B007-B7D9-4329-A423-E38BE5653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B671C-0B0B-4298-94D8-A97C1EF5D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A776B-6FD3-49FF-80E0-7AD838D26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03B5B-1BA3-478B-A09D-29B41A26F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181B0-3E1C-43C8-9FAA-5F20CACC7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9849A-868E-4C0C-8FC6-4ABD3E79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6DD6-95DE-4AB3-ACAA-E3240C8E0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1FE9C-6AD9-4417-ADBA-EC1E306F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3C8DF-3B63-4098-B333-B152FFA3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8A11F-4477-47B9-87DA-9927EAB7E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C0481-7A21-41B7-B43B-79F08CA2A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68C8A-D579-4C76-A449-5FCE70BA6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A5F6-DE13-4F98-89DD-DFFDF43A5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853F-160D-4A1F-BB66-675EA013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F211-610F-4E86-98A1-D8A120993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7983-BE19-4FE1-A60A-B5739B9B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958C-60AF-4BE4-BBE1-7D5CA025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8650-4B9B-4113-BC34-99C41731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B90F-BD49-4791-AC06-648D12D6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F788F-CD1C-4A78-92A4-F0C6675D57CB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F9AEA-16DC-4F8F-B0C1-101E6BC0FBF7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72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6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Ethernet: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De 2,94 Mbps a 1000 Mbps en 25 año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Impact"/>
              </a:rPr>
              <a:t>Rogelio Montañana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Impact"/>
              </a:rPr>
              <a:t>rogelio.montanana@uv.e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Impact"/>
              </a:rPr>
              <a:t>Universidad de Valencia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Historia: estandarizació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298520" y="3117960"/>
          <a:ext cx="7620120" cy="2985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8520" y="3117960"/>
                    <a:ext cx="7620120" cy="29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Historia: estandarizació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Formato DIX: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TCP/IP, DECNET Fase IV, LAT (Local Area Transport), IPX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Formato 802.3/LLC: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Appletalk Fase 2, NetBIOS, IPX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Historia: estandarizació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En 1997 el grupo de trabajo 802.3x (Control de flujo para Ethernet Full Duplex) aprueba campo tipo/longitud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La asignación de números de tipo pasa de Xerox a IEEE (ver p. ej. RFC1700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Historia: medios físico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80: sólo ‘thickwire’ (10BASE5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82: aparece ‘thinwire’ (RG58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85: se estandariza 10BASE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84: primeros productos en fibra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89: se estandariza FOIRL (Fiber Optic Inter Repeater Link).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93: se estandariza 10BASE-F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Historia: medios físicos (UTP)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84: AT&amp;T pierde monopolio por juicio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85: Ethernet sobre cable UTP (Synoptics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85: Sist. de cableado (DEC, IBM, AT&amp;T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87: se estandariza StarLAN (1BASE5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90: se estandariza 10BASE-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91: primer estándar de cableado estructurado: EIA/TIA 568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Historia: puentes/conmutadore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84: Primeros puentes comerciales (DEC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90: Estándar 802.1D (puentes transp.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92: Primeros conmutadores (Kalpana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93: Productos Full Dúplex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97: Estándar 802.3x (control de flujo FD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97: Draft 802.1Q (VLANs) y 802.1p (prioridades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Historia: Fast Etherne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88: Van Jacobson obtiene 8 Mbps TCP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92: Grand Junction inventa F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92: IEEE crea gurpo estudio alta velocidad Dos propuestas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90840" indent="-26568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Ethernet  x  10 (CSMA/CD):  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90840" indent="-26568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Nuevo protocolo MAC: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95: Estándar 802.3u (FE). Nivel físico basado en FDDI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7" name=""/>
          <p:cNvSpPr/>
          <p:nvPr/>
        </p:nvSpPr>
        <p:spPr>
          <a:xfrm>
            <a:off x="5410080" y="4800600"/>
            <a:ext cx="373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100VG-AnyLAN (802.1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67280" y="42670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Fast Ether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Historia: Gigabit Etherne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Repite experiencia de FE. Equipo parecido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Oct. 1995: Se crea grupo estudio G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3/1997: se separa 1000B-T del resto de G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29/6/1998: Estándar 802.3z (GE) Nivel físico basado en Fiber Channel 800 Mbp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3/1999: Previsible aprobación de 802.3ab (1000BASE-T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Impact"/>
              </a:rPr>
              <a:t>Nivel físico: cables cobre (UTP)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7/91: se aprueba UTP cat.  3 y 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8/91: se aprueba UTP cat. 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Categoría 5 en revisión: C5 Enhanced (C5E) en TIA/EIA, actualización C5 en ISO/IEC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Se calcula que 10% de C5 instalado no soporta 100/1000 Mbps (conectores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Cat. 6 y 7 en desarrollo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Nivel Físico: cables cobre (UTP)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901800" y="2406600"/>
          <a:ext cx="8402400" cy="4022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1800" y="2406600"/>
                    <a:ext cx="8402400" cy="40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Sumario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Historia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Nivel físico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Funcionamiento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Futuro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Impact"/>
              </a:rPr>
              <a:t>Nivel físico: codificació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270080" y="2208240"/>
          <a:ext cx="7475400" cy="4589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0080" y="2208240"/>
                    <a:ext cx="7475400" cy="45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Impact"/>
              </a:rPr>
              <a:t>Nivel físico: Fibra óptica EN y F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EN : LED 1ª ventana, 2km (850 nm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2200" indent="-3222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FE : LED 2ª vent., 2km (1310 nm) (de FDDI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2200" indent="-3222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EN y FE: alcance limitado por aten. (dB/Km)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2200" indent="-3222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Diferente longitud de onda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98400" indent="-26856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No autonegociació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98400" indent="-26856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Haz invisible en FE (infrarrojo lejano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Impact"/>
              </a:rPr>
              <a:t>Nivel físico: Fibra óptica G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Láser 1ª y 2ª ventana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1ª vent. (MM) bajo costo (VCSEL) corto alcance(275-550m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2ª: vent, (MM y SM) mayor costo (3x), mayor alcance (550m-5km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Láser VCSEL (Vertical Cavity Surface Emitting Laser) más barato que LEDs 2ª ventana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Impact"/>
              </a:rPr>
              <a:t>Nivel físico: F. O. Multimodo (GE)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GE MM alcance limitado por dispersión (inverso ancho de banda modal, MHz*km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Ancho de banda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68520" indent="-2570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Mayor en 2ª que en 1ª vent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68520" indent="-2570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Mayor en 50/125 que en 62,5/125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68520" indent="-2570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Notable diferencia según calidad de fibra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No todas las fibras son iguales: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68520" indent="-2570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valores estándar superados por fabricante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Impact"/>
              </a:rPr>
              <a:t>Nivel físico: F. O. multimodo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082520" y="2165400"/>
          <a:ext cx="7388280" cy="393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2520" y="2165400"/>
                    <a:ext cx="7388280" cy="39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Impact"/>
              </a:rPr>
              <a:t>Nivel físico: F. O. Multimodo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Fibra 50/125 mejor que 62,5/125 para GE, pero peor para EN y FE (equipos menos preparados). Considerar base instalada y uso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Nuevo estándar 100BASE-SX (VCSEL) a finales 1998; menor costo que 100BASE-FX, permite extender fibra hasta el puesto de trabajo (300m)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Nivel físico: topología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EN y FE: Fundamental no superar 512 bits de retardo máximo (colisiones tardías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2640" indent="-3326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GE: 4096 bits de retardo máximo (trama ampliada a 512 bytes con ‘extensión de portadora’)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2640" indent="-3326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Diámetro max: EN 4 Km , FE 412 m, GE 330 m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Nivel físico: topología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Dos sistemas de verificación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20720" indent="-27720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Modelo 1: ‘menu del día’ (reglas genéricas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20720" indent="-27720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Modelo 2: ‘a la carta’ (cálculo detallado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32640" indent="-3326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En la mayoría de los casos basta el modelo 1. Para el modelo 2 hace falta sumar el retardo de cada componente (repetidor, cable. etc.) tomando valores estándar o del fabricante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Nivel físico: Full Dúplex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Full Duplex: doble capacidad, no CSMA/CD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Solo posible si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Dos estaciones (p. ej. host-switch, sw-sw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Medio FD (p. ej. 100BASE-T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Ambos equipos/transceivers capace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Sin limitación de distancia por colisione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Ej.: GE hasta 110 Km con SM (Nbase)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Impact"/>
              </a:rPr>
              <a:t>Nivel físico: Full Dúplex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Suprime MAC, por tanto mas sencillo de implementar (mas barato) que HD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2640" indent="-3326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Modo normal de funcionamiento de GE (evita problema de distancias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2640" indent="-3326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Pero: Menor ventaja de lo que parece (generalmente solo útil en servidores y conmutadores)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Historia: Precursore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70:  Alohanet en Hawaii (Abramson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Red broadcast  en estrella (radioenlaces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Dos canales UHF de 100 KHz / 9,6 Kbps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60960" indent="-25416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Canal descendente un solo emisor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60960" indent="-25416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Canal ascendente compartido 3 estaciones; Aloha puro, mas tarde Aloha ranurado. Normalmente más eficiente que MDF. 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Nivel físico: fiabilidad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Según 802.3 BER (Bit Error Rate) &lt;10</a:t>
            </a:r>
            <a:r>
              <a:rPr b="0" lang="es-ES" sz="3200" spc="-1" strike="noStrike" baseline="30000">
                <a:solidFill>
                  <a:srgbClr val="ffffff"/>
                </a:solidFill>
                <a:latin typeface="Impact"/>
              </a:rPr>
              <a:t>-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Una buena instalación: BER &lt;  10</a:t>
            </a:r>
            <a:r>
              <a:rPr b="0" lang="es-ES" sz="3200" spc="-1" strike="noStrike" baseline="30000">
                <a:solidFill>
                  <a:srgbClr val="ffffff"/>
                </a:solidFill>
                <a:latin typeface="Impact"/>
              </a:rPr>
              <a:t>-1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A 10 Mbps menos de una trama errónea/día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Errores CRC normalmente despreciables. Por esto Ethernet es CLNS (LLC tipo 1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Impact"/>
              </a:rPr>
              <a:t>Pero</a:t>
            </a: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: si hay errores/problemas el rendimiento decae con rapidez (ver RMON).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Rendimiento: caracterización de tráfico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Tipo 1: 100% pequeños: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76080" indent="-25992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telnet con eco remoto, VoIP (100-200 bytes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Tipo 2: 50% pequeños / 50% Grandes: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76080" indent="-25992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FTP, HTTP (ACK del TCP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Tipo 3: 99% Grandes: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76080" indent="-25992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Flujos UDP (video MPEG/H.263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Normalmente mezcla de varios tipo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Paquete promedio </a:t>
            </a:r>
            <a:r>
              <a:rPr b="1" lang="es-ES" sz="3200" spc="-1" strike="noStrike">
                <a:solidFill>
                  <a:srgbClr val="ffffff"/>
                </a:solidFill>
                <a:latin typeface="Impact"/>
              </a:rPr>
              <a:t>534 bytes</a:t>
            </a: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Rendimiento: Colisione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Evento normal en CSMA/CD. Conviene minimizarlas ya que reducen rendimiento 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Si Poisson y todas las tramas 64 bytes Ethernet = Aloha ranurado -&gt; 38% max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Pero: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05600" indent="-2714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No todas las tramas tienen 64 Bytes  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05600" indent="-2714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Tráfico LAN no es Poisso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Rendimiento: colisione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Como reducirlas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Impact"/>
              </a:rPr>
              <a:t>Aumentar tamaño de tramas</a:t>
            </a: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: con 64 bytes riesgo de colisión todo el tiempo, con 1518 solo el 4%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Impact"/>
              </a:rPr>
              <a:t>Reducir número de estaciones</a:t>
            </a: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; menos estaciones menos caos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Impact"/>
              </a:rPr>
              <a:t>Minimizar distancias entre servidores</a:t>
            </a: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; si la ‘distancia’ es 256 bits el riesgo solo esta en los primeros 32 byte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Rendimiento: colisione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A igual topología colisiones EN &lt; FE &lt;&lt; GE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5880" indent="-3358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Ejemplo: dos estaciones conectadas a un mismo hub con 100 m de cable cada una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27920" indent="-28008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EN: 25 bytes (4%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27920" indent="-28008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FE: 39 bytes (7%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27920" indent="-28008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GE: 457 bytes (86%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Rendimiento: colisione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¿Cuando es excesivo el número de colisiones?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20720" indent="-27720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Si todas las tramas son de 64 bytes, hay muchos emisores y todos estan a la distancia máxima es normal que haya  muchas colisiones (hasta un 30- 50%) cuando el tráfico es elevado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20720" indent="-27720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Si todas las tramas son de 1500 bytes no deberían superar el 5% del tiempo.  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Reparto equitativo en Ethernet</a:t>
            </a:r>
            <a:br>
              <a:rPr sz="4400"/>
            </a:br>
            <a:r>
              <a:rPr b="0" lang="es-ES" sz="3600" spc="-1" strike="noStrike">
                <a:solidFill>
                  <a:srgbClr val="ccffff"/>
                </a:solidFill>
                <a:latin typeface="Impact"/>
              </a:rPr>
              <a:t>(o mas bien reparto no equitativo)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Problemas principale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Emisores de tramas grandes consiguen mas proporción del ancho de banda (solo compiten en los primeros 64 bytes)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Impact"/>
              </a:rPr>
              <a:t>Efecto captura</a:t>
            </a: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: emisores rápidos capturan el canal durante mas tiempo que los lentos. Consecuencia del retroceso exponencial binario (BEB). 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Impact"/>
              </a:rPr>
              <a:t>Rendimiento: Efecto captura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Impensable en tiempos de Metcalfe (máquinas demasiado lentas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Considerado un ‘bug’ de diseño del retroceso exponencial binario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Alternativa: BLAM (Binary Logarithmic Arbitration Method) en estudio por 802.3w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Chip de IBM con BLAM integrado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Rendimiento: planificació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¿Cuando debo aumentar la capacidad de mi Ethernet?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Hay que deducirlo del tráfico, no de las colisione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Medir tráfico en puntos clave (p. ej. RMON); tomar valores cada 15 minutos y calcular promedios 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Rendimiento: planificació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Conviene aumentar la red si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27920" indent="-28008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Se supera el 50% durante 15 minutos, o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27920" indent="-28008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Se supera el 20-30% durante una hora, o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27920" indent="-28008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Se supera el 10-20% durante 8 hora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35880" indent="-3358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Un 100% de ocupación durante un minuto no justifica un aumento de capacidad (salvo si hay tráfico en tiempo real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Impact"/>
              </a:rPr>
              <a:t>Historia: Alohane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371600" y="2133720"/>
            <a:ext cx="7391520" cy="42670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286000" y="2743200"/>
            <a:ext cx="190512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6172200" y="4038120"/>
            <a:ext cx="175248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581280"/>
            <a:ext cx="19051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Rendimiento: planificació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Antes de comprar hardware estudiar posibles optimizaciones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Cambiar la topología para distribuir tráfico de forma mas homogénea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Ubicar equipos donde mas se aproveche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Intentar optimizar para la situación crítica (la hora punta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Impact"/>
              </a:rPr>
              <a:t>Rendimiento: planificació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EN o FE compartida es una vía a extinguir, solo interesante hoy en redes pequeña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Ventajas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53760" indent="-25128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Rendimiento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53760" indent="-25128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Distancia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53760" indent="-25128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Efecto captura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Costo de red conmutada cada vez mas próximo al de red compartida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Impact"/>
              </a:rPr>
              <a:t>Rendim.: precio puertos (Kpts)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082520" y="2165400"/>
          <a:ext cx="7388280" cy="393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2520" y="2165400"/>
                    <a:ext cx="7388280" cy="39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Impact"/>
              </a:rPr>
              <a:t>Rendimiento: planificació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Los emisores en fibra FE y GE seguirán siendo mas caros que en cobre (x2), aun con el uso de VCS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Las alternativas (ATM,...) parecen cada vez menos atractivas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90840" indent="-26568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Mayor costo, mayor complejidad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90840" indent="-26568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Menor fiabilidad, menor rendimiento (frente a FE FD o GE FD), menor escalabilidad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Impact"/>
              </a:rPr>
              <a:t>Rendimiento: planificació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Para backbone considerar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FE conmutada Full Dúplex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Agregación de varias FE FD (802.3ad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GE FD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Agregación de varias GE FD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Impact"/>
              </a:rPr>
              <a:t>Rendimiento: planificació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Para servidores considerar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FE conmutada Full Dúplex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Agregación de varias FE FD (802.3ad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GE FD (buffered repeater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GE conmutada FD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Impact"/>
              </a:rPr>
              <a:t>Rendimiento: planificació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Para el puesto de trabajo considerar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EN conmutada FD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FE conmutada FD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GE FD (buffered repeater) cuando 1000BASE-T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Impact"/>
              </a:rPr>
              <a:t>Futuro: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Impact"/>
              </a:rPr>
              <a:t>“</a:t>
            </a:r>
            <a:r>
              <a:rPr b="0" i="1" lang="es-ES_tradnl" sz="3200" spc="-1" strike="noStrike">
                <a:solidFill>
                  <a:srgbClr val="ffffff"/>
                </a:solidFill>
                <a:latin typeface="Impact"/>
              </a:rPr>
              <a:t>La predicción es una tarea difícil, especialmente cuando se trata del futuro”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Niels Bohr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Impact"/>
              </a:rPr>
              <a:t>Futuro: QoS en Etherne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Desarrollos (draft) en 802.1p (y 802.1Q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Esquema de prioridades como Token Ring; mas bien CoS que QoS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Quizá solo útil en redes conmutadas. Requiere cambios en software y NIC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Necesidad de acompañar políticas de uso (sistema de contabilidad/facturación).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Dudosa utilid. en LAN (sobredimensionar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Impact"/>
              </a:rPr>
              <a:t>Futuro: 10 Gbps Etherne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Desarrollos ya en marcha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Nivel físico basado en OC-192 (9,95 Gbps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Sistema de codificación ¿quizá 8B/10B?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Intención de implementar también en cobre (¿UTP 25 pares?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¿Quizá solo FD?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Posible alternativa a ATM y SDH en WAN (menos overhead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Historia: Rendimiento de Aloha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Suponiendo distribución de Poisson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68520" indent="-2570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Aloha puro: max. 18,4% al 50% de utilización 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1028520" indent="-205560">
              <a:spcBef>
                <a:spcPts val="601"/>
              </a:spcBef>
              <a:buClr>
                <a:srgbClr val="ffffff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Impact"/>
              </a:rPr>
              <a:t>A 10 Mbps:  1,84 utiles + 3,16 colisione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68520" indent="-2570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Aloha ranurado:  36,8% al 100% de utilizació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1028520" indent="-205560">
              <a:spcBef>
                <a:spcPts val="601"/>
              </a:spcBef>
              <a:buClr>
                <a:srgbClr val="ffffff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Impact"/>
              </a:rPr>
              <a:t>A 10 Mbps: 3,68 utiles + 6,32 colisione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Pero el tráfico es auto-similar (fractal), no Poisson, no aleatorio -&gt; mas rendimiento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Aloha ranurado usado en GSM y satélites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Impact"/>
              </a:rPr>
              <a:t>Futuro: Dentro de 25 años (2023):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¿ TE (Terabit Ethernet) ?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Problemas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Latencia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Buffers / control de flujo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Tamaño de trama &gt;1500 (¿como?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Notación: 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1000000BASE-X, o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10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Impact"/>
              </a:rPr>
              <a:t>6</a:t>
            </a: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BASE-X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Historia: Ethernet experimental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70: Robert Metcalfe (MIT) empieza tesis en Harvard(optimización Aloha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72: Metcalfe llega a Xerox PARC; se le encarga diseñar la red del laboratorio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22/5/1973: Ethernet experimental (Metcalfe y David Boggs): 2,94 Mbps, 1,6 Km, direcc. 8 bits, CRC 16 bits, PUP, predecesor XNS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76: Metcalfe y Boggs publican artículo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Historia: alianza DIX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76: Nueva división para PCs y EN  (X-wire)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Arquitectura distribuida, opuesta a SNA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79: Consorcio DEC-Intel-Xerox: filosofía abierta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Vuelta al nombre Ethernet y paso a 10Mbp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80: DIX publica EN v 1.0  (v 2.0 en 1982) 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Historia: estandarizació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80: creación del proyecto IEEE 80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DIX intenta ‘imponer’ EN a 80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Tres propuestas, tres subcomités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802.3: CSMA/CD (DIX) 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802.4: Token Bus (General Motors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802.5: Token Ring (IBM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Historia: estandarizació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83: 802.3 aprueba CSMA/CD con una ‘pequeña’ modificación respecto a EN DIX: Campo </a:t>
            </a:r>
            <a:r>
              <a:rPr b="0" i="1" lang="es-ES" sz="3200" spc="-1" strike="noStrike">
                <a:solidFill>
                  <a:srgbClr val="ffffff"/>
                </a:solidFill>
                <a:latin typeface="Impact"/>
              </a:rPr>
              <a:t>tipo</a:t>
            </a: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  reemplazado por </a:t>
            </a:r>
            <a:r>
              <a:rPr b="0" i="1" lang="es-ES" sz="3200" spc="-1" strike="noStrike">
                <a:solidFill>
                  <a:srgbClr val="ffffff"/>
                </a:solidFill>
                <a:latin typeface="Impact"/>
              </a:rPr>
              <a:t>longitud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Xerox desplaza campo tipo (&gt;1536) para que pueda coexisitir EN DIX con 802.3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En 802.3 tipo especificado en cabecera LLC (802.2) usando 4 campos / 8 bytes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10T17:53:50Z</dcterms:created>
  <dc:creator>Rogelio Montañana Perez</dc:creator>
  <dc:description/>
  <dc:language>en-US</dc:language>
  <cp:lastModifiedBy>Servicio de Informática</cp:lastModifiedBy>
  <dcterms:modified xsi:type="dcterms:W3CDTF">1998-11-26T14:44:46Z</dcterms:modified>
  <cp:revision>30</cp:revision>
  <dc:subject/>
  <dc:title>Ethernet:</dc:title>
</cp:coreProperties>
</file>